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24280" y="-360"/>
            <a:ext cx="430524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988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645300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5624280" y="6453000"/>
            <a:ext cx="430524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457E-35D4-495C-8745-1C2EFE6159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27024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5624640" y="6453360"/>
            <a:ext cx="4305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0D08-47CE-410E-A2DC-62600FC71D9D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C53F12-85E8-4349-BCC3-F641AC022EF7}" type="slidenum">
              <a:rPr b="0" lang="en-US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397320" cy="2547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321920" y="3227040"/>
            <a:ext cx="72867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736-B918-478F-AB20-660FA851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DF2-82A7-4B73-9405-47983859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DF4-C555-4800-8D83-47C7BA05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A23-B931-423C-BAB0-09F52A4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1CAB-339B-4F45-AE56-7139DFDB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2E61-A4D1-42D3-8EC8-CCDBEC98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CFB1-D0E8-4459-8329-ECDB3391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FC31-3D92-4446-ABFC-12773355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FD92-5207-4D33-986C-84F0782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BAE4-178C-4FF4-AE9E-462C714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31E9-E228-49E0-99D4-2F6B04B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A05-4F7C-41DB-9065-B407CD11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95E5-D554-4057-AFFB-6585D48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93EA-DCAD-4C5E-A272-ECCE841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D2A4-6006-411E-8800-A21E3BDD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2753-B52B-4C39-9EF9-67D18265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E3D5-2F18-4693-9904-FB4FAA05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614-9191-4421-B02F-C178F5B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2FE-0B19-49FE-B4F2-8FC05A9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641-84FB-4DE1-A4D6-CFF94B8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205-483F-4F12-9E24-A227938F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244-3F8E-4EC9-9783-D3DAE04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C46-5B50-4022-AE80-BC6FB7D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152-6804-41BE-9DC0-096936F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7075-F8B5-44BD-989C-8B70693D3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E377-9582-41DF-A35F-76646BF0FE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49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640" y="84924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2489-7EFD-4E34-A711-9681C79CF236}" type="datetime">
              <a:rPr b="0" lang="en-US" sz="1400" spc="-1" strike="noStrike">
                <a:solidFill>
                  <a:srgbClr val="4c575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3085-7081-4EF9-AC2A-55B399E0B9E0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orldwide.espacenet.com/" TargetMode="External"/><Relationship Id="rId2" Type="http://schemas.openxmlformats.org/officeDocument/2006/relationships/hyperlink" Target="http://worldwide.espacenet.com/" TargetMode="External"/><Relationship Id="rId3" Type="http://schemas.openxmlformats.org/officeDocument/2006/relationships/hyperlink" Target="http://worldwide.espacenet.com/" TargetMode="External"/><Relationship Id="rId4" Type="http://schemas.openxmlformats.org/officeDocument/2006/relationships/hyperlink" Target="http://www.uspto.gov/web/patents/classification/index.htm" TargetMode="External"/><Relationship Id="rId5" Type="http://schemas.openxmlformats.org/officeDocument/2006/relationships/hyperlink" Target="http://www.uspto.gov/web/patents/classification/index.ht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documents.epo.org/projects/babylon/eponot.nsf/0/2F88B7285FC1E3ECC125785500531278/$File/OPS_v3_0_documentation_v1_1_en.pdf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pcinfo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B6D3-BB44-48BB-9EC7-9A7AC216C793}" type="slidenum">
              <a:rPr b="0" lang="de-DE" sz="14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91960" y="785880"/>
            <a:ext cx="85838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36600" y="1889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575f"/>
                </a:solidFill>
                <a:latin typeface="Arial"/>
              </a:rPr>
              <a:t>Cooperative Patent Classification (CPC)</a:t>
            </a:r>
            <a:endParaRPr b="0" lang="en-US" sz="3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676840" y="4835520"/>
            <a:ext cx="29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PC CE Meeting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Geneva, 27 February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85760" y="4859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ierre Held,         EPO Directorate Classification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hristopher Kim, USPTO CPC Coordinator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308B-2DF1-4E2E-B17C-DF839211CA2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Training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230480"/>
            <a:ext cx="7678800" cy="47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-Learning modules for USPTO staff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ield-specific training (FST) provided by EPO examiners to their counterparts of the technical field 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tensive use of 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eedback via the QA proces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change visits and e-contacts between specialists in a fiel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AB8-2AD7-4389-9222-2D326E48051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A47-2D37-4FF0-AE3B-DCEC16FD089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360" y="27576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ield Specific Training (FST) Ses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1330200" y="828720"/>
            <a:ext cx="6324840" cy="26496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25560">
            <a:solidFill>
              <a:srgbClr val="b4b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4842720" y="39625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reate a library of CBT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514600" y="1168560"/>
            <a:ext cx="4379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</a:rPr>
              <a:t>USPTO QNs will be trained on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read 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PC scheme/definition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search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lassify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monitor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evaluate addition/deletion of symbol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Develop revision project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2" name="Picture 2" descr="C:\Users\sliu4\AppData\Local\Microsoft\Windows\Temporary Internet Files\Content.IE5\ND5AL5LL\MC900230305[1].wmf"/>
          <p:cNvPicPr/>
          <p:nvPr/>
        </p:nvPicPr>
        <p:blipFill>
          <a:blip r:embed="rId1"/>
          <a:stretch/>
        </p:blipFill>
        <p:spPr>
          <a:xfrm>
            <a:off x="3662280" y="3703680"/>
            <a:ext cx="1003320" cy="885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sliu4\AppData\Local\Microsoft\Windows\Temporary Internet Files\Content.IE5\ND5AL5LL\MC900440402[1].png"/>
          <p:cNvPicPr/>
          <p:nvPr/>
        </p:nvPicPr>
        <p:blipFill>
          <a:blip r:embed="rId2"/>
          <a:stretch/>
        </p:blipFill>
        <p:spPr>
          <a:xfrm>
            <a:off x="2247840" y="230184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1023" descr=""/>
          <p:cNvPicPr/>
          <p:nvPr/>
        </p:nvPicPr>
        <p:blipFill>
          <a:blip r:embed="rId3"/>
          <a:stretch/>
        </p:blipFill>
        <p:spPr>
          <a:xfrm>
            <a:off x="1311120" y="4784760"/>
            <a:ext cx="2425680" cy="163512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35" descr=""/>
          <p:cNvPicPr/>
          <p:nvPr/>
        </p:nvPicPr>
        <p:blipFill>
          <a:blip r:embed="rId4"/>
          <a:stretch/>
        </p:blipFill>
        <p:spPr>
          <a:xfrm>
            <a:off x="4791240" y="4784760"/>
            <a:ext cx="2384280" cy="1635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24"/>
          <p:cNvSpPr/>
          <p:nvPr/>
        </p:nvSpPr>
        <p:spPr>
          <a:xfrm>
            <a:off x="381564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739728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FST Overview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5B2C-2497-4385-957B-5614E650F71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Demo 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9760" y="1197000"/>
            <a:ext cx="83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2"/>
              </a:rPr>
              <a:t>worldwide.espacenet.com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5"/>
              </a:rPr>
              <a:t>www.uspto.gov/web/patents/classification/index.htm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7C5B-C266-4933-A12A-100E73FA6F1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993600"/>
            <a:ext cx="4881600" cy="5315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scheme browser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411280" y="2492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42920" y="2421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ub-section text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2411280" y="18446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117440" y="1917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Radio buttons: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IPC vs CPC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Show notes &amp; warn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dot/tree view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195640" y="4437000"/>
            <a:ext cx="93636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826920" y="4365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expand main group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where possible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71680" y="1476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901800" y="1413000"/>
            <a:ext cx="1869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earch functionality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411280" y="3500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042920" y="3429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guidance head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26F-D44D-4D14-BC4A-77C796FAE5B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CPC search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5155920" cy="5408640"/>
          </a:xfrm>
          <a:prstGeom prst="rect">
            <a:avLst/>
          </a:prstGeom>
          <a:ln w="0">
            <a:noFill/>
          </a:ln>
        </p:spPr>
      </p:pic>
      <p:sp>
        <p:nvSpPr>
          <p:cNvPr id="208" name="Line 4"/>
          <p:cNvSpPr/>
          <p:nvPr/>
        </p:nvSpPr>
        <p:spPr>
          <a:xfrm>
            <a:off x="1763640" y="2349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5440" y="2309760"/>
            <a:ext cx="18702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tatistical 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562400" cy="914400"/>
          </a:xfrm>
          <a:prstGeom prst="rect">
            <a:avLst/>
          </a:prstGeom>
          <a:ln w="0">
            <a:noFill/>
          </a:ln>
        </p:spPr>
      </p:pic>
      <p:sp>
        <p:nvSpPr>
          <p:cNvPr id="211" name="Line 7"/>
          <p:cNvSpPr/>
          <p:nvPr/>
        </p:nvSpPr>
        <p:spPr>
          <a:xfrm>
            <a:off x="1763640" y="35402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50920" y="3500280"/>
            <a:ext cx="1869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ability to expand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588-0EE6-48E0-B1B0-5E1F5126EC5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Links to Definitions and Schem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24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cons to open PDF files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finitions and Schem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535280" cy="3340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755640" y="47973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uture version of OPS will have Definitions XML (and concordance list XML).  How these will be used and incorporated into the browser application will be determined i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CF9D-6826-4BB0-93A2-3F0744B944F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Classification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95200" y="1263600"/>
            <a:ext cx="8551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E4B-67A7-4178-91A3-A3F40B3A867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38200" y="1050840"/>
            <a:ext cx="8470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7076-C07C-49DA-9699-A220382C91A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3680" y="1227240"/>
            <a:ext cx="83851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15E-58B1-43D3-8EF5-8DAD90B8113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787400" y="1434960"/>
            <a:ext cx="4857840" cy="2419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399960" y="1082520"/>
            <a:ext cx="834228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800360" y="3679920"/>
            <a:ext cx="4886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Oval 1"/>
          <p:cNvSpPr/>
          <p:nvPr/>
        </p:nvSpPr>
        <p:spPr>
          <a:xfrm>
            <a:off x="5418000" y="763560"/>
            <a:ext cx="2019600" cy="1050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9DC-B028-4F20-ABAD-18326001021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640" y="1055160"/>
            <a:ext cx="80265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schem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project timeline and mileston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viewer in Espacene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Allocation Standard, Scheme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Revision and Mainten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CBF-2A18-49E5-868A-71A13FD21CA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2440" y="920880"/>
            <a:ext cx="8437680" cy="51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920880" y="5842080"/>
            <a:ext cx="7437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 - based on WIPO ST.8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164360" y="36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034F-206B-4B93-97E1-EB5E781AF06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148428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0564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4869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5084640"/>
            <a:ext cx="2890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87080" y="6113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Version 1.0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3600" y="55404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c575f"/>
                </a:solidFill>
                <a:latin typeface="Arial"/>
              </a:rPr>
              <a:t>only for CPCNO</a:t>
            </a:r>
            <a:endParaRPr b="0" lang="en-US" sz="1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70440" y="5630760"/>
            <a:ext cx="114444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43840" y="42116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4487760"/>
            <a:ext cx="166680" cy="0"/>
          </a:xfrm>
          <a:prstGeom prst="line">
            <a:avLst/>
          </a:prstGeom>
          <a:ln w="93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3680" y="4349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41DE-687E-4492-B801-6096A7E965D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614520"/>
            <a:ext cx="817884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CPC Scheme Services as </a:t>
            </a:r>
            <a:br>
              <a:rPr sz="3200"/>
            </a:b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EPO’s OPS Service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6360" y="1428480"/>
            <a:ext cx="821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1.  CPC Validation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2. Classification Mapping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CLA to C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ECLA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I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08B-D2AC-411A-B1B2-C393B973E47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1. CPC validation servic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6788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classification validation service checks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xistenc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and ECLA classification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service will accept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nly 'full' classification symbol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, starting from main group, e.g. A01B1/00.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for a requested symbol is indicated by standard HTTP response cod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f the symbol is valid, a standard HTTP 200 OK response is returned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n the case the symbol is not being found in the scheme, a standard HTTP 404 Not Found error response is returned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the symbol format being invalid, a standard HTTP 400 Bad Request error response is returned.  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any other system error, a standard HTTP 500 System Error response is returned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2BF-5F67-43F5-9848-4975F34E037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68996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2. Classification mapping service</a:t>
            </a:r>
            <a:br>
              <a:rPr sz="2800"/>
            </a:b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81704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classification mapping service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rovides access to internal classification conversion routine for external users.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following directions of conversions are supported by OPS :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ECLA &gt; C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ECL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Add only &gt; ICO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I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service accepts only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'full' classification symbols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, starting from main group level, e.g. A01B1/00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CPC&gt;ECLA transformation ambiguous, therefor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ptional request parameter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_?additional_ to specify that additional classification symbol is requested. Th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default request is </a:t>
            </a:r>
            <a:r>
              <a:rPr b="1" i="1" lang="en-GB" sz="1800" spc="-1" strike="noStrike">
                <a:solidFill>
                  <a:srgbClr val="404b56"/>
                </a:solidFill>
                <a:latin typeface="Arial"/>
              </a:rPr>
              <a:t>invention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8A60-86C8-42EC-A551-D01C7B92056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ECLA-CPC Respons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9" name="Rectangle 5" descr=""/>
          <p:cNvPicPr/>
          <p:nvPr/>
        </p:nvPicPr>
        <p:blipFill>
          <a:blip r:embed="rId1"/>
          <a:stretch/>
        </p:blipFill>
        <p:spPr>
          <a:xfrm>
            <a:off x="512640" y="500040"/>
            <a:ext cx="7872480" cy="5581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/>
          </p:cNvPr>
          <p:cNvSpPr/>
          <p:nvPr/>
        </p:nvSpPr>
        <p:spPr>
          <a:xfrm>
            <a:off x="3079440" y="614376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PS RESTful documentation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80F-106C-42FD-B678-EE0E861780D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793520"/>
            <a:ext cx="78184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CPC 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Revision and Maintenance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process</a:t>
            </a:r>
            <a:endParaRPr b="1" lang="en-US" sz="4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mending the CPC scheme and/or definition,</a:t>
            </a:r>
            <a:br>
              <a:rPr sz="2000"/>
            </a:b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nd reclassifying the corresponding document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CF55-6551-48D2-9AE9-BDCE09F919B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77C9-8EFE-44E7-8302-3024392E787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From 1 January 2013 onwards CPC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ly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dministered by the EPO and USPTO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 decisions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to amend the CPC 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scheme and definitions 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Changes through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 maintenance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revision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A87-9D17-4DAC-8BCF-EF27107E248D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386080" y="714240"/>
            <a:ext cx="28972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1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3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--------------------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H01L</a:t>
            </a:r>
            <a:r>
              <a:rPr b="0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21/28528     </a:t>
            </a:r>
            <a:r>
              <a:rPr b="0" lang="pt-BR" sz="1800" spc="-1" strike="noStrike">
                <a:solidFill>
                  <a:srgbClr val="4c575f"/>
                </a:solidFill>
                <a:latin typeface="Arial"/>
              </a:rPr>
              <a:t>. . . 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</a:t>
            </a:r>
            <a:r>
              <a:rPr b="1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1/285285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. . . .</a:t>
            </a:r>
            <a:r>
              <a:rPr b="1" lang="pt-BR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4    .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8    . . . . 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97280" y="907920"/>
            <a:ext cx="301680" cy="2982960"/>
          </a:xfrm>
          <a:custGeom>
            <a:avLst/>
            <a:gdLst>
              <a:gd name="textAreaLeft" fmla="*/ 0 w 301680"/>
              <a:gd name="textAreaRight" fmla="*/ 108720 w 301680"/>
              <a:gd name="textAreaTop" fmla="*/ 77760 h 2982960"/>
              <a:gd name="textAreaBottom" fmla="*/ 2905200 h 298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714920" y="5388120"/>
            <a:ext cx="288720" cy="968400"/>
          </a:xfrm>
          <a:custGeom>
            <a:avLst/>
            <a:gdLst>
              <a:gd name="textAreaLeft" fmla="*/ 0 w 288720"/>
              <a:gd name="textAreaRight" fmla="*/ 104040 w 288720"/>
              <a:gd name="textAreaTop" fmla="*/ 25200 h 968400"/>
              <a:gd name="textAreaBottom" fmla="*/ 943200 h 96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97600" y="1317600"/>
            <a:ext cx="3738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rigin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PC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CLA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mirrored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08680" y="5168880"/>
            <a:ext cx="3813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orthogonal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flipV="1">
            <a:off x="2091240" y="1083600"/>
            <a:ext cx="358920" cy="2903400"/>
          </a:xfrm>
          <a:custGeom>
            <a:avLst/>
            <a:gdLst>
              <a:gd name="textAreaLeft" fmla="*/ -360 w 358920"/>
              <a:gd name="textAreaRight" fmla="*/ 129240 w 358920"/>
              <a:gd name="textAreaTop" fmla="*/ 75600 h 2903400"/>
              <a:gd name="textAreaBottom" fmla="*/ 2827800 h 29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>
            <a:off x="2133720" y="4210200"/>
            <a:ext cx="333360" cy="2111400"/>
          </a:xfrm>
          <a:custGeom>
            <a:avLst/>
            <a:gdLst>
              <a:gd name="textAreaLeft" fmla="*/ 0 w 333360"/>
              <a:gd name="textAreaRight" fmla="*/ 120240 w 333360"/>
              <a:gd name="textAreaTop" fmla="*/ 54720 h 2111400"/>
              <a:gd name="textAreaBottom" fmla="*/ 205668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54080" y="2239920"/>
            <a:ext cx="197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INV/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79600" y="4908600"/>
            <a:ext cx="133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388360" y="664056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15B0-AFE6-406F-A1AD-5EB0DA797C6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013360" y="43894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further breakdown" ICO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34000" y="4227480"/>
            <a:ext cx="288720" cy="804960"/>
          </a:xfrm>
          <a:custGeom>
            <a:avLst/>
            <a:gdLst>
              <a:gd name="textAreaLeft" fmla="*/ 0 w 288720"/>
              <a:gd name="textAreaRight" fmla="*/ 104040 w 288720"/>
              <a:gd name="textAreaTop" fmla="*/ 20880 h 804960"/>
              <a:gd name="textAreaBottom" fmla="*/ 78408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75920" y="31021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Main trunk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16240" y="57261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2000-serie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61800" y="322200"/>
            <a:ext cx="768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─ sections A-H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9D1-6B6F-403E-BC6F-E42AC7E2234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hare reclassification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resources when projects enter reclassification phase: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50%-50% overall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in some projects flexibility to divide the work on a different shar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onthly update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possible for CPC scheme and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upport 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ill be provided: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 Concordance List (RCL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Publication of changes 2 months before they enter into for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1E49-7AD0-41FC-B01B-1543A165D3C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www.cpcinf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ep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uspto.gov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1520" y="4726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  <a:ea typeface="Arial"/>
              </a:rPr>
              <a:t>─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Y section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83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General tagging of new technological developments; general tagging of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cross-cutting technologie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 spanning over several sections of the IPC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2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Climate change mitigation technologies (CCMTs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4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Smart grid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Technical subjects covered by former USPC </a:t>
            </a:r>
            <a:br>
              <a:rPr sz="2400"/>
            </a:b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ross-reference art collections [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XRAC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] and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Digest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10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293-564D-4FB3-B24D-D208ABA2691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─H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}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used to distinguish CPC text from IPC one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s former USPC XRACs and digest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indexing code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88E-F4BB-4987-B844-C804ED0E9FA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2440" y="1041120"/>
            <a:ext cx="80802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 CPC scheme will be supported by a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et of instructions (in complement to the scheme)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on how to search and classify in each specific technical are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y have been designed along the lines of the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IPC Definition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ince 1 October 2012, CPC Definitions are being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published on a monthly basis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as they get bilaterally agreed and will finally cover: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subclasse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main groups, and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ome subgroup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o date we count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164 published CPC definitions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221 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is Friday 1 March 2013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284-65C6-4D5F-B0E9-20A6720FD7DC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2EF9-0888-4383-85B4-E62B01F9835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312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1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33200" y="4954680"/>
            <a:ext cx="1506600" cy="1141560"/>
            <a:chOff x="133200" y="4954680"/>
            <a:chExt cx="1506600" cy="1141560"/>
          </a:xfrm>
        </p:grpSpPr>
        <p:sp>
          <p:nvSpPr>
            <p:cNvPr id="138" name="Line 6"/>
            <p:cNvSpPr/>
            <p:nvPr/>
          </p:nvSpPr>
          <p:spPr>
            <a:xfrm flipV="1">
              <a:off x="462600" y="4954680"/>
              <a:ext cx="0" cy="24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33200" y="52434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tart of project discussions between EPO and USPTO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5839560" y="433548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Ja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8968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1768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49884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6299280" y="4654080"/>
            <a:ext cx="0" cy="20340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90520" y="4776840"/>
            <a:ext cx="8475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rot="5400000">
            <a:off x="1851840" y="2600640"/>
            <a:ext cx="216000" cy="2865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520 h 2865600"/>
              <a:gd name="textAreaBottom" fmla="*/ 2791080 h 286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85920" y="1398600"/>
            <a:ext cx="28796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velop train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ument classification practices (CPC Definitions)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ECLA housekeep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IT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 rot="5400000">
            <a:off x="7423560" y="2902320"/>
            <a:ext cx="228600" cy="2274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 flipV="1">
            <a:off x="6305400" y="4933800"/>
            <a:ext cx="5040" cy="540000"/>
          </a:xfrm>
          <a:prstGeom prst="line">
            <a:avLst/>
          </a:prstGeom>
          <a:ln w="9360">
            <a:solidFill>
              <a:srgbClr val="c0362b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16440" y="551340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MS PGothic"/>
              </a:rPr>
              <a:t>CPC Launch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 rot="5400000">
            <a:off x="4786200" y="2712960"/>
            <a:ext cx="219240" cy="2635200"/>
          </a:xfrm>
          <a:custGeom>
            <a:avLst/>
            <a:gdLst>
              <a:gd name="textAreaLeft" fmla="*/ 140040 w 219240"/>
              <a:gd name="textAreaRight" fmla="*/ 219600 w 219240"/>
              <a:gd name="textAreaTop" fmla="*/ 68400 h 2635200"/>
              <a:gd name="textAreaBottom" fmla="*/ 2566800 h 26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3160800" y="1379520"/>
            <a:ext cx="33973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IT implementation at USPTO and EP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c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CPC Scheme launch version publicly available on 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DB back-file converted to CPC on 15 Nov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PC in Espacenet - December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Prepare for launch of CPC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27640" y="4950000"/>
            <a:ext cx="1319040" cy="1136880"/>
            <a:chOff x="4427640" y="4950000"/>
            <a:chExt cx="1319040" cy="1136880"/>
          </a:xfrm>
        </p:grpSpPr>
        <p:sp>
          <p:nvSpPr>
            <p:cNvPr id="154" name="Line 23"/>
            <p:cNvSpPr/>
            <p:nvPr/>
          </p:nvSpPr>
          <p:spPr>
            <a:xfrm flipV="1">
              <a:off x="5089680" y="4950000"/>
              <a:ext cx="144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4427640" y="5234040"/>
              <a:ext cx="1319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CPC launch version available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1 Oct 2012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566640" y="603360"/>
            <a:ext cx="7332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575f"/>
                </a:solidFill>
                <a:latin typeface="Arial"/>
              </a:rPr>
              <a:t>CPC timeline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543720" y="892080"/>
            <a:ext cx="24750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CPC used by EPO and USPT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Epoque (Net) and USPat and USApp CPC-ready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Quality Assurance process in place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Harmonize classific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ctices</a:t>
            </a: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Joint CPC revision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d0e"/>
                </a:solidFill>
                <a:latin typeface="Arial"/>
              </a:rPr>
              <a:t>CPC available for use by other IP office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AC7-27F0-46C0-8D9E-66FBAA8BF96E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652520" y="4343400"/>
            <a:ext cx="81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Apr 2013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800568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8011800" y="4965480"/>
            <a:ext cx="4680" cy="49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7275600" y="5500800"/>
            <a:ext cx="1728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o more ECLA-to-CPC mapping in revised area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702320" y="4343400"/>
            <a:ext cx="79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509112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98F-972E-48E3-9AAD-B489EC4801D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16268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703440" y="304920"/>
            <a:ext cx="7689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- USPTO Implementation Timeline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Implementation Timelin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334-263A-493E-8763-33A415B3474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A3B-AA6F-4F71-A9A3-37D408DD9ED6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ality Assurance (QA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127160"/>
            <a:ext cx="81374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Class-QNs through QA: sampling of documents and provision of written feedback 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Possibility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n-the-fly written 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all classifier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reation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statistical reports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er technical area by analysing the difference in symbols allocated by the two offices to the same familie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Pierre Held (EPO) and Christopher Kim (USPTO)</dc:creator>
  <dc:description/>
  <cp:keywords>IPC</cp:keywords>
  <dc:language>en-US</dc:language>
  <cp:lastModifiedBy>Malanga</cp:lastModifiedBy>
  <dcterms:modified xsi:type="dcterms:W3CDTF">2013-03-04T09:34:37Z</dcterms:modified>
  <cp:revision>944</cp:revision>
  <dc:subject>IPC/CE/45 - Presentation on the Cooperative Patent Classification (CPC)</dc:subject>
  <dc:title>IPC/CE/45 - Presentation on the Cooperative Patent Classification (CPC)</dc:title>
</cp:coreProperties>
</file>