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548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80BD307-48C8-4DF2-AFA0-CB961FA9C36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B45F55E-A52E-4E1E-8138-D21CA3BA17F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786C-E838-4874-B0AA-61F62AE4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A14C-C1AC-4E02-A1B5-CB55874A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0BC3-1A6B-4BDA-B303-3F95C7575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8F83-9DBB-430B-AC29-83790EE07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8EF9-34B4-4433-B2B8-4721B684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2136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2600" y="132876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9012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2136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2600" y="3907440"/>
            <a:ext cx="2505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84C0-0484-4129-B1C0-8684AA43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6C895-26BB-42C0-A81F-2FE20F89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4E4B-8DFC-4D81-B6D4-B060B0D3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349000" y="394920"/>
            <a:ext cx="618660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A1E14-E168-4D2F-8D79-CCD96A39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8570-CF7B-4F0A-B970-14CD0E9F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8200" y="390744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6D005-CF81-4FFC-ABB6-132678F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8200" y="1328760"/>
            <a:ext cx="3797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0120" y="3907440"/>
            <a:ext cx="778212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CCE2C-4507-47FB-B262-F050B8FB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 rot="5400000">
            <a:off x="4559760" y="244188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 rot="5400000">
            <a:off x="4559760" y="-2658240"/>
            <a:ext cx="42840" cy="778212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37488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AC84-3FD1-4AB6-8A99-612704FB729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2"/>
          <p:cNvSpPr/>
          <p:nvPr/>
        </p:nvSpPr>
        <p:spPr>
          <a:xfrm>
            <a:off x="3019320" y="6367320"/>
            <a:ext cx="3149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3"/>
          <p:cNvSpPr/>
          <p:nvPr/>
        </p:nvSpPr>
        <p:spPr>
          <a:xfrm>
            <a:off x="3395520" y="6345360"/>
            <a:ext cx="2786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4"/>
          <p:cNvSpPr/>
          <p:nvPr/>
        </p:nvSpPr>
        <p:spPr>
          <a:xfrm>
            <a:off x="939960" y="4919760"/>
            <a:ext cx="3135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80620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GPTO activities related to 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8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3"/>
          <p:cNvSpPr/>
          <p:nvPr/>
        </p:nvSpPr>
        <p:spPr>
          <a:xfrm rot="5400000">
            <a:off x="3070440" y="2846880"/>
            <a:ext cx="597240" cy="6738840"/>
          </a:xfrm>
          <a:prstGeom prst="rect">
            <a:avLst/>
          </a:prstGeom>
          <a:solidFill>
            <a:srgbClr val="64c3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6738840" y="5303880"/>
            <a:ext cx="2405160" cy="598320"/>
          </a:xfrm>
          <a:prstGeom prst="rect">
            <a:avLst/>
          </a:prstGeom>
          <a:solidFill>
            <a:srgbClr val="cde9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7"/>
          <p:cNvSpPr/>
          <p:nvPr/>
        </p:nvSpPr>
        <p:spPr>
          <a:xfrm>
            <a:off x="6772320" y="6043320"/>
            <a:ext cx="19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ww.dpma.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9" descr="DPMAengl_Office_Farbe_en"/>
          <p:cNvPicPr/>
          <p:nvPr/>
        </p:nvPicPr>
        <p:blipFill>
          <a:blip r:embed="rId2"/>
          <a:stretch/>
        </p:blipFill>
        <p:spPr>
          <a:xfrm>
            <a:off x="162000" y="39600"/>
            <a:ext cx="2050920" cy="11397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4c3d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4c3d5"/>
              </a:buClr>
              <a:buSzPct val="6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4c3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4c3d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register.dpma.de/DPMAregister/pat/register?lang=en&amp;AKZ=1020060546970&amp;CURSOR=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3280" y="1619280"/>
            <a:ext cx="7557840" cy="12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PMA activities and plans related to the WIPO Standards dealing with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73280" y="3060360"/>
            <a:ext cx="755784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esentation during CWS 4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ay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homas Plarre; Dr. Katja Bra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rman Patent and Trade Mark Office (DP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47D93-C626-4D0A-917B-24C5EDED53C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5"/>
          <p:cNvSpPr/>
          <p:nvPr/>
        </p:nvSpPr>
        <p:spPr>
          <a:xfrm>
            <a:off x="1703520" y="3132000"/>
            <a:ext cx="271440" cy="1828800"/>
          </a:xfrm>
          <a:custGeom>
            <a:avLst/>
            <a:gdLst>
              <a:gd name="textAreaLeft" fmla="*/ 173520 w 271440"/>
              <a:gd name="textAreaRight" fmla="*/ 271800 w 2714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303120" y="37612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1701720" y="5054760"/>
            <a:ext cx="271440" cy="666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17280 h 666720"/>
              <a:gd name="textAreaBottom" fmla="*/ 649440 h 66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330120" y="5116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.36 down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3EB-DA5E-4906-B7FE-963A9B2004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65768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9"/>
          <p:cNvSpPr/>
          <p:nvPr/>
        </p:nvSpPr>
        <p:spPr>
          <a:xfrm>
            <a:off x="1703520" y="2179800"/>
            <a:ext cx="271440" cy="3819240"/>
          </a:xfrm>
          <a:custGeom>
            <a:avLst/>
            <a:gdLst>
              <a:gd name="textAreaLeft" fmla="*/ 173520 w 271440"/>
              <a:gd name="textAreaRight" fmla="*/ 271800 w 271440"/>
              <a:gd name="textAreaTop" fmla="*/ 99360 h 3819240"/>
              <a:gd name="textAreaBottom" fmla="*/ 3719880 h 38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03120" y="35784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D8AA-9088-4911-B027-3C718C640F1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1976400" y="1384200"/>
            <a:ext cx="6181920" cy="470700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5"/>
          <p:cNvSpPr/>
          <p:nvPr/>
        </p:nvSpPr>
        <p:spPr>
          <a:xfrm>
            <a:off x="1703520" y="2341440"/>
            <a:ext cx="271440" cy="3695760"/>
          </a:xfrm>
          <a:custGeom>
            <a:avLst/>
            <a:gdLst>
              <a:gd name="textAreaLeft" fmla="*/ 173520 w 271440"/>
              <a:gd name="textAreaRight" fmla="*/ 271800 w 271440"/>
              <a:gd name="textAreaTop" fmla="*/ 96120 h 3695760"/>
              <a:gd name="textAreaBottom" fmla="*/ 3599640 h 3695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303120" y="390384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097A-039D-42FC-A91B-93A65C8C89B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3"/>
          <p:cNvSpPr/>
          <p:nvPr/>
        </p:nvSpPr>
        <p:spPr>
          <a:xfrm>
            <a:off x="2847960" y="1990800"/>
            <a:ext cx="3398760" cy="3381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62640" y="2327400"/>
            <a:ext cx="209520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605480" y="2327400"/>
            <a:ext cx="20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00440" y="267156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gister for patents, utility models, trade marks and desig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7027920" y="2711520"/>
            <a:ext cx="1000080" cy="458280"/>
            <a:chOff x="7027920" y="2711520"/>
            <a:chExt cx="1000080" cy="458280"/>
          </a:xfrm>
        </p:grpSpPr>
        <p:sp>
          <p:nvSpPr>
            <p:cNvPr id="107" name="Rectangle 7"/>
            <p:cNvSpPr/>
            <p:nvPr/>
          </p:nvSpPr>
          <p:spPr>
            <a:xfrm>
              <a:off x="7027920" y="2722680"/>
              <a:ext cx="1000080" cy="4471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8"/>
            <p:cNvSpPr/>
            <p:nvPr/>
          </p:nvSpPr>
          <p:spPr>
            <a:xfrm>
              <a:off x="7075440" y="2711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9"/>
          <p:cNvSpPr/>
          <p:nvPr/>
        </p:nvSpPr>
        <p:spPr>
          <a:xfrm>
            <a:off x="7026120" y="3225960"/>
            <a:ext cx="1000440" cy="447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7074000" y="32158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4836960" y="5113440"/>
            <a:ext cx="158148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12"/>
          <p:cNvGrpSpPr/>
          <p:nvPr/>
        </p:nvGrpSpPr>
        <p:grpSpPr>
          <a:xfrm>
            <a:off x="7026120" y="2205360"/>
            <a:ext cx="1000080" cy="458280"/>
            <a:chOff x="7026120" y="2205360"/>
            <a:chExt cx="1000080" cy="458280"/>
          </a:xfrm>
        </p:grpSpPr>
        <p:sp>
          <p:nvSpPr>
            <p:cNvPr id="113" name="Rectangle 13"/>
            <p:cNvSpPr/>
            <p:nvPr/>
          </p:nvSpPr>
          <p:spPr>
            <a:xfrm>
              <a:off x="7026120" y="221616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4"/>
            <p:cNvSpPr/>
            <p:nvPr/>
          </p:nvSpPr>
          <p:spPr>
            <a:xfrm>
              <a:off x="7073640" y="22053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Line 15"/>
          <p:cNvSpPr/>
          <p:nvPr/>
        </p:nvSpPr>
        <p:spPr>
          <a:xfrm>
            <a:off x="6667560" y="237168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6656400" y="2827440"/>
            <a:ext cx="366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664320" y="346392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4570560" y="3946680"/>
            <a:ext cx="2095200" cy="1285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508640" y="393552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522680" y="4356000"/>
            <a:ext cx="212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online access to register and public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1"/>
          <p:cNvGrpSpPr/>
          <p:nvPr/>
        </p:nvGrpSpPr>
        <p:grpSpPr>
          <a:xfrm>
            <a:off x="7035840" y="4367520"/>
            <a:ext cx="1000080" cy="458280"/>
            <a:chOff x="7035840" y="4367520"/>
            <a:chExt cx="1000080" cy="458280"/>
          </a:xfrm>
        </p:grpSpPr>
        <p:sp>
          <p:nvSpPr>
            <p:cNvPr id="122" name="Rectangle 22"/>
            <p:cNvSpPr/>
            <p:nvPr/>
          </p:nvSpPr>
          <p:spPr>
            <a:xfrm>
              <a:off x="7035840" y="437832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3"/>
            <p:cNvSpPr/>
            <p:nvPr/>
          </p:nvSpPr>
          <p:spPr>
            <a:xfrm>
              <a:off x="7083360" y="436752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6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Rectangle 24"/>
          <p:cNvSpPr/>
          <p:nvPr/>
        </p:nvSpPr>
        <p:spPr>
          <a:xfrm>
            <a:off x="7034040" y="4881600"/>
            <a:ext cx="1000440" cy="447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7081920" y="4871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6"/>
          <p:cNvGrpSpPr/>
          <p:nvPr/>
        </p:nvGrpSpPr>
        <p:grpSpPr>
          <a:xfrm>
            <a:off x="7034040" y="3861000"/>
            <a:ext cx="1000080" cy="458280"/>
            <a:chOff x="7034040" y="3861000"/>
            <a:chExt cx="1000080" cy="458280"/>
          </a:xfrm>
        </p:grpSpPr>
        <p:sp>
          <p:nvSpPr>
            <p:cNvPr id="127" name="Rectangle 27"/>
            <p:cNvSpPr/>
            <p:nvPr/>
          </p:nvSpPr>
          <p:spPr>
            <a:xfrm>
              <a:off x="7034040" y="3871800"/>
              <a:ext cx="1000080" cy="447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8"/>
            <p:cNvSpPr/>
            <p:nvPr/>
          </p:nvSpPr>
          <p:spPr>
            <a:xfrm>
              <a:off x="7081560" y="386100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ST.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29"/>
          <p:cNvSpPr/>
          <p:nvPr/>
        </p:nvSpPr>
        <p:spPr>
          <a:xfrm>
            <a:off x="6675480" y="402732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0"/>
          <p:cNvSpPr/>
          <p:nvPr/>
        </p:nvSpPr>
        <p:spPr>
          <a:xfrm>
            <a:off x="6669000" y="457848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6672240" y="5119560"/>
            <a:ext cx="36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2332080" y="2327400"/>
            <a:ext cx="2104920" cy="1295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3"/>
          <p:cNvSpPr/>
          <p:nvPr/>
        </p:nvSpPr>
        <p:spPr>
          <a:xfrm>
            <a:off x="2327400" y="23353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341440" y="268488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nline filing of I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5"/>
          <p:cNvSpPr/>
          <p:nvPr/>
        </p:nvSpPr>
        <p:spPr>
          <a:xfrm>
            <a:off x="949320" y="270180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6"/>
          <p:cNvSpPr/>
          <p:nvPr/>
        </p:nvSpPr>
        <p:spPr>
          <a:xfrm>
            <a:off x="996840" y="26920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7"/>
          <p:cNvSpPr/>
          <p:nvPr/>
        </p:nvSpPr>
        <p:spPr>
          <a:xfrm>
            <a:off x="947880" y="3205080"/>
            <a:ext cx="1000080" cy="44784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995400" y="31953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9"/>
          <p:cNvSpPr/>
          <p:nvPr/>
        </p:nvSpPr>
        <p:spPr>
          <a:xfrm>
            <a:off x="947880" y="2195640"/>
            <a:ext cx="1000080" cy="4474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0"/>
          <p:cNvSpPr/>
          <p:nvPr/>
        </p:nvSpPr>
        <p:spPr>
          <a:xfrm>
            <a:off x="995400" y="21855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1"/>
          <p:cNvSpPr/>
          <p:nvPr/>
        </p:nvSpPr>
        <p:spPr>
          <a:xfrm>
            <a:off x="955800" y="1660680"/>
            <a:ext cx="1000080" cy="447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965160" y="16599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3"/>
          <p:cNvSpPr/>
          <p:nvPr/>
        </p:nvSpPr>
        <p:spPr>
          <a:xfrm>
            <a:off x="1960560" y="2922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4"/>
          <p:cNvSpPr/>
          <p:nvPr/>
        </p:nvSpPr>
        <p:spPr>
          <a:xfrm>
            <a:off x="1968480" y="337824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5"/>
          <p:cNvSpPr/>
          <p:nvPr/>
        </p:nvSpPr>
        <p:spPr>
          <a:xfrm>
            <a:off x="1957320" y="1900080"/>
            <a:ext cx="381240" cy="44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311560" y="3940200"/>
            <a:ext cx="2104920" cy="1292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2173320" y="39434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PMAdatenabg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2320920" y="4335480"/>
            <a:ext cx="203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ekly data and documents from the DPMA data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936720" y="386064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984240" y="385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2"/>
          <p:cNvSpPr/>
          <p:nvPr/>
        </p:nvSpPr>
        <p:spPr>
          <a:xfrm>
            <a:off x="1938240" y="407196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4"/>
          <p:cNvSpPr/>
          <p:nvPr/>
        </p:nvSpPr>
        <p:spPr>
          <a:xfrm>
            <a:off x="3514680" y="3413520"/>
            <a:ext cx="23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internal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5"/>
          <p:cNvSpPr/>
          <p:nvPr/>
        </p:nvSpPr>
        <p:spPr>
          <a:xfrm>
            <a:off x="974880" y="5432400"/>
            <a:ext cx="276120" cy="85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6"/>
          <p:cNvSpPr/>
          <p:nvPr/>
        </p:nvSpPr>
        <p:spPr>
          <a:xfrm>
            <a:off x="973080" y="5554800"/>
            <a:ext cx="276120" cy="75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7"/>
          <p:cNvSpPr/>
          <p:nvPr/>
        </p:nvSpPr>
        <p:spPr>
          <a:xfrm>
            <a:off x="973080" y="5964120"/>
            <a:ext cx="276120" cy="114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8"/>
          <p:cNvSpPr/>
          <p:nvPr/>
        </p:nvSpPr>
        <p:spPr>
          <a:xfrm>
            <a:off x="973080" y="5678640"/>
            <a:ext cx="276120" cy="7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0"/>
          <p:cNvSpPr/>
          <p:nvPr/>
        </p:nvSpPr>
        <p:spPr>
          <a:xfrm>
            <a:off x="1380960" y="5564160"/>
            <a:ext cx="492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used (with different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1"/>
          <p:cNvSpPr/>
          <p:nvPr/>
        </p:nvSpPr>
        <p:spPr>
          <a:xfrm>
            <a:off x="1276200" y="5429160"/>
            <a:ext cx="133560" cy="486000"/>
          </a:xfrm>
          <a:custGeom>
            <a:avLst/>
            <a:gdLst>
              <a:gd name="textAreaLeft" fmla="*/ 0 w 133560"/>
              <a:gd name="textAreaRight" fmla="*/ 48240 w 133560"/>
              <a:gd name="textAreaTop" fmla="*/ 12600 h 486000"/>
              <a:gd name="textAreaBottom" fmla="*/ 4734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2"/>
          <p:cNvSpPr/>
          <p:nvPr/>
        </p:nvSpPr>
        <p:spPr>
          <a:xfrm>
            <a:off x="1379520" y="591480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ML based on WIPO standards planed to be used (with office specific enhanceme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5"/>
          <p:cNvSpPr/>
          <p:nvPr/>
        </p:nvSpPr>
        <p:spPr>
          <a:xfrm>
            <a:off x="934920" y="43830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6"/>
          <p:cNvSpPr/>
          <p:nvPr/>
        </p:nvSpPr>
        <p:spPr>
          <a:xfrm>
            <a:off x="982800" y="43732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1936800" y="45943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8"/>
          <p:cNvSpPr/>
          <p:nvPr/>
        </p:nvSpPr>
        <p:spPr>
          <a:xfrm>
            <a:off x="944640" y="4906800"/>
            <a:ext cx="1000080" cy="447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9"/>
          <p:cNvSpPr/>
          <p:nvPr/>
        </p:nvSpPr>
        <p:spPr>
          <a:xfrm>
            <a:off x="992160" y="48970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70"/>
          <p:cNvSpPr/>
          <p:nvPr/>
        </p:nvSpPr>
        <p:spPr>
          <a:xfrm>
            <a:off x="1946160" y="5118120"/>
            <a:ext cx="352440" cy="4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1"/>
          <p:cNvSpPr/>
          <p:nvPr/>
        </p:nvSpPr>
        <p:spPr>
          <a:xfrm>
            <a:off x="6654960" y="3025800"/>
            <a:ext cx="366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3"/>
          <p:cNvSpPr/>
          <p:nvPr/>
        </p:nvSpPr>
        <p:spPr>
          <a:xfrm>
            <a:off x="7043760" y="5396040"/>
            <a:ext cx="1000080" cy="447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7024680" y="5416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M-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5"/>
          <p:cNvSpPr/>
          <p:nvPr/>
        </p:nvSpPr>
        <p:spPr>
          <a:xfrm>
            <a:off x="6680160" y="5299200"/>
            <a:ext cx="35244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77"/>
          <p:cNvSpPr/>
          <p:nvPr/>
        </p:nvSpPr>
        <p:spPr>
          <a:xfrm>
            <a:off x="1959120" y="245412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8"/>
          <p:cNvSpPr/>
          <p:nvPr/>
        </p:nvSpPr>
        <p:spPr>
          <a:xfrm>
            <a:off x="3587760" y="1430280"/>
            <a:ext cx="210492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9"/>
          <p:cNvSpPr/>
          <p:nvPr/>
        </p:nvSpPr>
        <p:spPr>
          <a:xfrm>
            <a:off x="3583080" y="1397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pa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0"/>
          <p:cNvSpPr/>
          <p:nvPr/>
        </p:nvSpPr>
        <p:spPr>
          <a:xfrm>
            <a:off x="3635280" y="1654560"/>
            <a:ext cx="20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arch for patent pub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1"/>
          <p:cNvSpPr/>
          <p:nvPr/>
        </p:nvSpPr>
        <p:spPr>
          <a:xfrm>
            <a:off x="2184480" y="1413000"/>
            <a:ext cx="1000080" cy="44748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2"/>
          <p:cNvSpPr/>
          <p:nvPr/>
        </p:nvSpPr>
        <p:spPr>
          <a:xfrm>
            <a:off x="2232000" y="1402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83"/>
          <p:cNvSpPr/>
          <p:nvPr/>
        </p:nvSpPr>
        <p:spPr>
          <a:xfrm>
            <a:off x="3195720" y="1671480"/>
            <a:ext cx="352440" cy="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4"/>
          <p:cNvSpPr/>
          <p:nvPr/>
        </p:nvSpPr>
        <p:spPr>
          <a:xfrm>
            <a:off x="971640" y="5819760"/>
            <a:ext cx="276120" cy="76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5"/>
          <p:cNvSpPr/>
          <p:nvPr/>
        </p:nvSpPr>
        <p:spPr>
          <a:xfrm>
            <a:off x="981000" y="6143760"/>
            <a:ext cx="27648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6"/>
          <p:cNvSpPr/>
          <p:nvPr/>
        </p:nvSpPr>
        <p:spPr>
          <a:xfrm>
            <a:off x="1387440" y="6094080"/>
            <a:ext cx="506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se of ST.26 not decided y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32A0-12E7-4ACD-90A5-8A37A35DB66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XML based on used WIPO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4"/>
          <p:cNvSpPr/>
          <p:nvPr/>
        </p:nvSpPr>
        <p:spPr>
          <a:xfrm>
            <a:off x="690480" y="1301400"/>
            <a:ext cx="7782120" cy="49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3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36 are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6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6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8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to import and export data in different DPM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pendant on application, different enhancements of WIPO ST.86 ar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2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.9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71360">
              <a:spcBef>
                <a:spcPts val="876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urrently no plans for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0A4E-225B-41AD-9D52-5BF288DF1EB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views for different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1687680" y="3438720"/>
            <a:ext cx="29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publishe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092560" y="2619360"/>
            <a:ext cx="24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6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7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8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31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32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3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9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0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1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2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AF66-E34D-49D1-9742-F227E03FDA3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 rot="16200000">
            <a:off x="-399960" y="377604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register,DPMA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6"/>
          <p:cNvSpPr/>
          <p:nvPr/>
        </p:nvSpPr>
        <p:spPr>
          <a:xfrm>
            <a:off x="1047600" y="1994040"/>
            <a:ext cx="181080" cy="3882960"/>
          </a:xfrm>
          <a:custGeom>
            <a:avLst/>
            <a:gdLst>
              <a:gd name="textAreaLeft" fmla="*/ 115920 w 181080"/>
              <a:gd name="textAreaRight" fmla="*/ 181440 w 181080"/>
              <a:gd name="textAreaTop" fmla="*/ 101160 h 3882960"/>
              <a:gd name="textAreaBottom" fmla="*/ 3781800 h 388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7"/>
          <p:cNvSpPr/>
          <p:nvPr/>
        </p:nvSpPr>
        <p:spPr>
          <a:xfrm>
            <a:off x="7783560" y="1994040"/>
            <a:ext cx="203040" cy="3873240"/>
          </a:xfrm>
          <a:custGeom>
            <a:avLst/>
            <a:gdLst>
              <a:gd name="textAreaLeft" fmla="*/ 0 w 203040"/>
              <a:gd name="textAreaRight" fmla="*/ 73440 w 203040"/>
              <a:gd name="textAreaTop" fmla="*/ 70920 h 3873240"/>
              <a:gd name="textAreaBottom" fmla="*/ 3802320 h 3873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3"/>
                  <a:pt x="10800" y="1266"/>
                </a:cubicBezTo>
                <a:lnTo>
                  <a:pt x="10800" y="9534"/>
                </a:lnTo>
                <a:cubicBezTo>
                  <a:pt x="10800" y="10167"/>
                  <a:pt x="16200" y="10800"/>
                  <a:pt x="21600" y="10800"/>
                </a:cubicBezTo>
                <a:cubicBezTo>
                  <a:pt x="16200" y="10800"/>
                  <a:pt x="10800" y="11433"/>
                  <a:pt x="10800" y="12066"/>
                </a:cubicBezTo>
                <a:lnTo>
                  <a:pt x="10800" y="20334"/>
                </a:lnTo>
                <a:cubicBezTo>
                  <a:pt x="10800" y="2096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1236600" y="1994040"/>
            <a:ext cx="3214800" cy="389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676760" y="1994040"/>
            <a:ext cx="3119400" cy="3882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ferent office specific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380960" y="2124000"/>
            <a:ext cx="2924280" cy="352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665360" y="2598840"/>
            <a:ext cx="2655720" cy="3524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663560" y="3035160"/>
            <a:ext cx="2657520" cy="352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662120" y="3490920"/>
            <a:ext cx="2658960" cy="5810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1380960" y="2108160"/>
            <a:ext cx="26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ile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1665360" y="258300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682640" y="301932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al stat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1687680" y="343872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erence to documents pu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4808520" y="2131920"/>
            <a:ext cx="28162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4"/>
          <p:cNvSpPr/>
          <p:nvPr/>
        </p:nvSpPr>
        <p:spPr>
          <a:xfrm>
            <a:off x="5092560" y="2635200"/>
            <a:ext cx="2532240" cy="352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6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"/>
          <p:cNvSpPr/>
          <p:nvPr/>
        </p:nvSpPr>
        <p:spPr>
          <a:xfrm>
            <a:off x="5091120" y="3119400"/>
            <a:ext cx="2533680" cy="352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4808520" y="2116080"/>
            <a:ext cx="26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cumen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5092560" y="2619360"/>
            <a:ext cx="22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bliogra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5110200" y="3103560"/>
            <a:ext cx="23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1514520" y="2476440"/>
            <a:ext cx="4680" cy="132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150984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1508040" y="321804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1511280" y="27687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4927680" y="2494080"/>
            <a:ext cx="0" cy="79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930920" y="32925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6"/>
          <p:cNvSpPr/>
          <p:nvPr/>
        </p:nvSpPr>
        <p:spPr>
          <a:xfrm>
            <a:off x="4929120" y="28051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5002200" y="4175280"/>
            <a:ext cx="2960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4797360" y="4127760"/>
            <a:ext cx="28274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is document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sed for a single 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1447920" y="4147200"/>
            <a:ext cx="282708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ibliografic data are file oriented/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bibliografic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egal status data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ne file usually refers to several published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361800" y="2397240"/>
            <a:ext cx="1028880" cy="765000"/>
          </a:xfrm>
          <a:prstGeom prst="wedgeRoundRectCallout">
            <a:avLst>
              <a:gd name="adj1" fmla="val 80865"/>
              <a:gd name="adj2" fmla="val 67013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4"/>
          <p:cNvSpPr/>
          <p:nvPr/>
        </p:nvSpPr>
        <p:spPr>
          <a:xfrm>
            <a:off x="942840" y="1420560"/>
            <a:ext cx="72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versus document oriented view (e.g. ST.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9"/>
          <p:cNvSpPr/>
          <p:nvPr/>
        </p:nvSpPr>
        <p:spPr>
          <a:xfrm rot="5400000">
            <a:off x="6323040" y="3776400"/>
            <a:ext cx="37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direkt,DPMAdatenabgabe, Depat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33"/>
          <p:cNvSpPr/>
          <p:nvPr/>
        </p:nvSpPr>
        <p:spPr>
          <a:xfrm>
            <a:off x="7748640" y="1992240"/>
            <a:ext cx="1028520" cy="765360"/>
          </a:xfrm>
          <a:prstGeom prst="wedgeRoundRectCallout">
            <a:avLst>
              <a:gd name="adj1" fmla="val -76236"/>
              <a:gd name="adj2" fmla="val 58712"/>
              <a:gd name="adj3" fmla="val 1666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office specific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6856-C249-45F3-AD1F-DD0D1B23A4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missing in XM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0120" y="1328760"/>
            <a:ext cx="77821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represents data during life time of an IP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only represents snap shot at the date of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ile oriented view used by DPMAregister and DPMA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4c3d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ocument oriented view used by DPMAdirekt, DPMAdatenabgabe, Depat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952560" y="4880880"/>
            <a:ext cx="7191360" cy="862560"/>
          </a:xfrm>
          <a:prstGeom prst="rect">
            <a:avLst/>
          </a:prstGeom>
          <a:solidFill>
            <a:srgbClr val="ffcc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requires different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ile oriented view not considered in WIPO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A1E7-2C10-49D3-ACF9-4FF3EDB972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8"/>
          <p:cNvSpPr/>
          <p:nvPr/>
        </p:nvSpPr>
        <p:spPr>
          <a:xfrm>
            <a:off x="1076400" y="3115800"/>
            <a:ext cx="76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egister.dpma.de/DPMAregister/pat/register?lang=en&amp;AKZ=1020060546970&amp;CURSOR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0986-1F52-4C36-BFDB-B5CF7030D25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076400" y="2811240"/>
            <a:ext cx="765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liennummernplatzhalter 3"/>
          <p:cNvSpPr/>
          <p:nvPr/>
        </p:nvSpPr>
        <p:spPr>
          <a:xfrm>
            <a:off x="6375240" y="6351480"/>
            <a:ext cx="2203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ECD8-3001-4CD4-9952-787485D235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ußzeilenplatzhalter 4"/>
          <p:cNvSpPr/>
          <p:nvPr/>
        </p:nvSpPr>
        <p:spPr>
          <a:xfrm>
            <a:off x="2806560" y="6356520"/>
            <a:ext cx="35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PMA activities related to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atumsplatzhalter 5"/>
          <p:cNvSpPr/>
          <p:nvPr/>
        </p:nvSpPr>
        <p:spPr>
          <a:xfrm>
            <a:off x="619200" y="6359400"/>
            <a:ext cx="2133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8.04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49000" y="394920"/>
            <a:ext cx="618660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emo of DPMA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968480" y="1384200"/>
            <a:ext cx="6189840" cy="471024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5"/>
          <p:cNvSpPr/>
          <p:nvPr/>
        </p:nvSpPr>
        <p:spPr>
          <a:xfrm>
            <a:off x="1704960" y="2019240"/>
            <a:ext cx="271440" cy="790560"/>
          </a:xfrm>
          <a:custGeom>
            <a:avLst/>
            <a:gdLst>
              <a:gd name="textAreaLeft" fmla="*/ 173520 w 271440"/>
              <a:gd name="textAreaRight" fmla="*/ 271800 w 2714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1703520" y="2855880"/>
            <a:ext cx="271440" cy="3200400"/>
          </a:xfrm>
          <a:custGeom>
            <a:avLst/>
            <a:gdLst>
              <a:gd name="textAreaLeft" fmla="*/ 173520 w 271440"/>
              <a:gd name="textAreaRight" fmla="*/ 271800 w 27144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80880" y="222480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303120" y="41421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ibliograph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976400" y="4705200"/>
            <a:ext cx="6181920" cy="2764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0"/>
          <p:cNvSpPr/>
          <p:nvPr/>
        </p:nvSpPr>
        <p:spPr>
          <a:xfrm>
            <a:off x="7029360" y="3009960"/>
            <a:ext cx="1895400" cy="1533600"/>
          </a:xfrm>
          <a:prstGeom prst="borderCallout1">
            <a:avLst>
              <a:gd name="adj1" fmla="val 18750"/>
              <a:gd name="adj2" fmla="val -8333"/>
              <a:gd name="adj3" fmla="val 109939"/>
              <a:gd name="adj4" fmla="val -46731"/>
            </a:avLst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"publication reference" requires sequence, which is not considered in ST.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1:55:10Z</dcterms:created>
  <dc:creator>FrHennig</dc:creator>
  <dc:description/>
  <dc:language>en-US</dc:language>
  <cp:lastModifiedBy>Geraldine Rodriguez</cp:lastModifiedBy>
  <dcterms:modified xsi:type="dcterms:W3CDTF">2014-05-20T07:57:25Z</dcterms:modified>
  <cp:revision>62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