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504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0080" cy="504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1640" cy="383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0552EB-6A1E-464B-B36A-2A7377C28D8A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960557-FE8B-4244-A9FE-11A732A033F0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7CCFCF-8828-4630-BE81-FEACBCD0B514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400678-D13C-4ECC-B712-B0646DEDFF6B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A57EF1-8080-46AE-BB59-DC77F162A63E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CD271-274E-4150-BBF8-84C4E7CF440A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B5ACF-5EEE-4DC9-BA10-D165759414A6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309AA5-3DB8-435C-9C17-6CAC48D6EA4F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4E941C-17A8-4C6F-8480-076D992D24D3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81A12C-34CA-4C79-90E7-8C8FB8DDDF1B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8DE278-070C-4055-AF17-37BE71E3A6A8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7CA13D-E4FA-4A0A-ACCA-26DD7940FE0B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BCF2F7-FFB0-463C-BC4D-28DF701B0F1B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6470C9-C3C5-42FF-AD5A-C6763D6BF774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6D6DFA-2119-4F4F-BEC0-F9CC69875820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512DC7-58F2-46C8-9F88-92915525A855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B01F4B-E507-4B1C-B1D4-52632BD0BC79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7BB4-2D71-494D-B29F-F2401C2C1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D62D-B4EF-49AB-8C38-1EA633C5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B9B6-4ECB-43CD-99F0-4196DC237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920D-272C-42B8-82CA-7F345BD36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510E-9FCA-465C-90DF-EB48A9BA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E26B-28FA-477C-AFB7-E40A893B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8E54-7F73-4384-A357-D3875283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80E9-E4F2-4912-B614-5B6290B5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B0CE-A630-4946-A779-F5B125F1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018B-931D-4EB6-BC69-5B8AAB1C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9CBD-398B-4908-9CC2-A28AFA20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56D2-734B-4E20-906E-DE12CB21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93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865A01-BA78-44F9-B233-365BB5FD2D9C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99640" y="2133360"/>
            <a:ext cx="74898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pplication of ST.96 XML and other WIPO XML standards at ROSPA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108000" y="0"/>
            <a:ext cx="868320" cy="981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1116000" y="115920"/>
            <a:ext cx="774072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Lucida Sans Unicode"/>
              </a:rPr>
              <a:t>Federal Institute of Industrial Proper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Lucida Sans Unicode"/>
              </a:rPr>
              <a:t>(ROSPATENT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2124000" y="4724280"/>
            <a:ext cx="65534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Lucida Sans Unicode"/>
              </a:rPr>
              <a:t>Yury Zont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Lucida Sans Unicode"/>
              </a:rPr>
              <a:t>Engineer at Software Application Development Divi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Lucida Sans Unicode"/>
              </a:rPr>
              <a:t>otd3138@rupto.ru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  <a:ea typeface="Lucida Sans Unicod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Lucida Sans Unicode"/>
              </a:rPr>
              <a:t>yury.zontov@gmail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"/>
          <p:cNvSpPr/>
          <p:nvPr/>
        </p:nvSpPr>
        <p:spPr>
          <a:xfrm>
            <a:off x="611280" y="1052640"/>
            <a:ext cx="79214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042920" y="115920"/>
            <a:ext cx="77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xample of XML describing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Object 6"/>
          <p:cNvGraphicFramePr/>
          <p:nvPr/>
        </p:nvGraphicFramePr>
        <p:xfrm>
          <a:off x="762120" y="1066680"/>
          <a:ext cx="7543800" cy="56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066680"/>
                    <a:ext cx="7543800" cy="56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24000" y="1052280"/>
            <a:ext cx="8496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ub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108000" y="0"/>
            <a:ext cx="612720" cy="6922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"/>
          <p:cNvSpPr/>
          <p:nvPr/>
        </p:nvSpPr>
        <p:spPr>
          <a:xfrm>
            <a:off x="1042920" y="115920"/>
            <a:ext cx="77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spects of official publications of Rospatent in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24000" y="1052280"/>
            <a:ext cx="8496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New publishing system (2014-…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Official publication on website in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66ff66"/>
                </a:solidFill>
                <a:latin typeface="Arial"/>
              </a:rPr>
              <a:t>continuous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rinting of formal documents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66ff66"/>
                </a:solidFill>
                <a:latin typeface="Arial"/>
              </a:rPr>
              <a:t>immediately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after reg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ublication of </a:t>
            </a:r>
            <a:r>
              <a:rPr b="1" lang="en-US" sz="3200" spc="-1" strike="noStrike">
                <a:solidFill>
                  <a:srgbClr val="66ff66"/>
                </a:solidFill>
                <a:latin typeface="Arial"/>
              </a:rPr>
              <a:t>full descriptions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for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invention </a:t>
            </a:r>
            <a:r>
              <a:rPr b="1" lang="en-US" sz="3200" spc="-1" strike="noStrike">
                <a:solidFill>
                  <a:srgbClr val="66ff66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XML formats:  </a:t>
            </a:r>
            <a:r>
              <a:rPr b="1" lang="en-US" sz="3200" spc="-1" strike="noStrike">
                <a:solidFill>
                  <a:srgbClr val="66ff66"/>
                </a:solidFill>
                <a:latin typeface="Arial"/>
              </a:rPr>
              <a:t>ST.96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after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108000" y="0"/>
            <a:ext cx="612720" cy="6922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1042920" y="115920"/>
            <a:ext cx="77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spects of official publications of Rospatent in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rimary tasks and func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66ff66"/>
                </a:solidFill>
                <a:latin typeface="Arial"/>
              </a:rPr>
              <a:t>Office Open XML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(.docx) to XML </a:t>
            </a:r>
            <a:r>
              <a:rPr b="1" lang="en-US" sz="2600" spc="-1" strike="noStrike">
                <a:solidFill>
                  <a:srgbClr val="66ff66"/>
                </a:solidFill>
                <a:latin typeface="Arial"/>
              </a:rPr>
              <a:t>ST.36/ST.96</a:t>
            </a:r>
            <a:br>
              <a:rPr sz="2600"/>
            </a:br>
            <a:r>
              <a:rPr b="1" lang="en-US" sz="2600" spc="-1" strike="noStrike">
                <a:solidFill>
                  <a:srgbClr val="66ff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conver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66ff66"/>
                </a:solidFill>
                <a:latin typeface="Arial"/>
              </a:rPr>
              <a:t>user-friendly profiles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for displaying XML in</a:t>
            </a:r>
            <a:br>
              <a:rPr sz="2600"/>
            </a:b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 browsers (tune-up on-fly XS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publication in </a:t>
            </a:r>
            <a:r>
              <a:rPr b="1" lang="en-US" sz="2600" spc="-1" strike="noStrike">
                <a:solidFill>
                  <a:srgbClr val="66ff66"/>
                </a:solidFill>
                <a:latin typeface="Arial"/>
              </a:rPr>
              <a:t>PDF/A 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(with ontology in RDF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66ff66"/>
                </a:solidFill>
                <a:latin typeface="Arial"/>
              </a:rPr>
              <a:t>repository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of XSL, DTDs, XS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66ff66"/>
                </a:solidFill>
                <a:latin typeface="Arial"/>
              </a:rPr>
              <a:t>web-service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for retrieving data via XML interf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publication of </a:t>
            </a:r>
            <a:r>
              <a:rPr b="1" lang="en-US" sz="2600" spc="-1" strike="noStrike">
                <a:solidFill>
                  <a:srgbClr val="66ff66"/>
                </a:solidFill>
                <a:latin typeface="Arial"/>
              </a:rPr>
              <a:t>current state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of IP ob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108000" y="0"/>
            <a:ext cx="612720" cy="6922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1042920" y="115920"/>
            <a:ext cx="77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spects of official publications of Rospatent in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Examples of “current state indicator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5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66ff66"/>
                </a:solidFill>
                <a:latin typeface="Arial"/>
              </a:rPr>
              <a:t>green</a:t>
            </a:r>
            <a:r>
              <a:rPr b="1" lang="en-US" sz="3500" spc="-1" strike="noStrike">
                <a:solidFill>
                  <a:srgbClr val="ffff66"/>
                </a:solidFill>
                <a:latin typeface="Arial"/>
              </a:rPr>
              <a:t>:</a:t>
            </a:r>
            <a:br>
              <a:rPr sz="3500"/>
            </a:br>
            <a:r>
              <a:rPr b="1" lang="en-US" sz="35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patent in effec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fee for last y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5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ffff66"/>
                </a:solidFill>
                <a:latin typeface="Arial"/>
              </a:rPr>
              <a:t>yellow:</a:t>
            </a:r>
            <a:br>
              <a:rPr sz="3500"/>
            </a:br>
            <a:r>
              <a:rPr b="1" lang="en-US" sz="35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patent may be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 discontinue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no fees for la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08000" y="0"/>
            <a:ext cx="612720" cy="6922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1042920" y="115920"/>
            <a:ext cx="77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spects of official publications of Rospatent in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2"/>
          <a:srcRect l="1153" t="24532" r="4960" b="5088"/>
          <a:stretch/>
        </p:blipFill>
        <p:spPr>
          <a:xfrm>
            <a:off x="4284720" y="1773360"/>
            <a:ext cx="4681440" cy="2342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"/>
          <p:cNvPicPr/>
          <p:nvPr/>
        </p:nvPicPr>
        <p:blipFill>
          <a:blip r:embed="rId3"/>
          <a:stretch/>
        </p:blipFill>
        <p:spPr>
          <a:xfrm>
            <a:off x="4284720" y="4292640"/>
            <a:ext cx="4681440" cy="215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Examples of “current state indicator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5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ff3300"/>
                </a:solidFill>
                <a:latin typeface="Arial"/>
              </a:rPr>
              <a:t>red</a:t>
            </a:r>
            <a:r>
              <a:rPr b="1" lang="en-US" sz="3500" spc="-1" strike="noStrike">
                <a:solidFill>
                  <a:srgbClr val="ffff66"/>
                </a:solidFill>
                <a:latin typeface="Arial"/>
              </a:rPr>
              <a:t>:</a:t>
            </a:r>
            <a:br>
              <a:rPr sz="3500"/>
            </a:br>
            <a:r>
              <a:rPr b="1" lang="en-US" sz="35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patent terminate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no fees or 20 years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 have pa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108000" y="0"/>
            <a:ext cx="612720" cy="6922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1042920" y="115920"/>
            <a:ext cx="77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spects of official publications of Rospatent in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2"/>
          <a:stretch/>
        </p:blipFill>
        <p:spPr>
          <a:xfrm>
            <a:off x="4284720" y="1773360"/>
            <a:ext cx="4606920" cy="206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108000" y="0"/>
            <a:ext cx="612720" cy="6922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/>
          <p:cNvSpPr/>
          <p:nvPr/>
        </p:nvSpPr>
        <p:spPr>
          <a:xfrm>
            <a:off x="611280" y="1052640"/>
            <a:ext cx="79214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  <a:ea typeface="Lucida Sans Unicode"/>
              </a:rPr>
              <a:t>Thank you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042920" y="115920"/>
            <a:ext cx="77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spects of official publications of Rospatent in X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611280" y="1052640"/>
            <a:ext cx="79214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Formal exa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Exa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Registration of 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Pub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Registration of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Publication of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611280" y="31680"/>
            <a:ext cx="77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he IP life 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611280" y="1052640"/>
            <a:ext cx="79214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 u="sng">
                <a:solidFill>
                  <a:srgbClr val="ffff66"/>
                </a:solidFill>
                <a:uFillTx/>
                <a:latin typeface="Calibri"/>
              </a:rPr>
              <a:t>Operat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International applications via Madrid System (MEC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Electronic application syste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(Not  ST.9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 u="sng">
                <a:solidFill>
                  <a:srgbClr val="ffff66"/>
                </a:solidFill>
                <a:uFillTx/>
                <a:latin typeface="Calibri"/>
              </a:rPr>
              <a:t>In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New electronic application syste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(ST.9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611280" y="31680"/>
            <a:ext cx="77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onic appli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4"/>
          <p:cNvSpPr/>
          <p:nvPr/>
        </p:nvSpPr>
        <p:spPr>
          <a:xfrm>
            <a:off x="611280" y="1052640"/>
            <a:ext cx="79214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Registration of 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Registration of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11280" y="31680"/>
            <a:ext cx="77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e of XM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611280" y="1052640"/>
            <a:ext cx="79214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  <a:ea typeface="Lucida Sans Unicode"/>
              </a:rPr>
              <a:t>Operat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Electronic Register of Trademarks and Service marks , Wellknown marks and geographical indications (ST.6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Electronic Register of inventions, industrial designs and utility models (ST.9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  <a:ea typeface="Arial"/>
              </a:rPr>
              <a:t>	</a:t>
            </a:r>
            <a:r>
              <a:rPr b="0" lang="fr-FR" sz="3200" spc="-1" strike="noStrike">
                <a:solidFill>
                  <a:srgbClr val="ffff66"/>
                </a:solidFill>
                <a:latin typeface="Calibri"/>
                <a:ea typeface="Arial"/>
              </a:rPr>
              <a:t>	</a:t>
            </a:r>
            <a:r>
              <a:rPr b="0" lang="fr-FR" sz="3200" spc="-1" strike="noStrike">
                <a:solidFill>
                  <a:srgbClr val="ffff66"/>
                </a:solidFill>
                <a:latin typeface="Calibri"/>
                <a:ea typeface="Arial"/>
              </a:rPr>
              <a:t> </a:t>
            </a:r>
            <a:r>
              <a:rPr b="1" lang="fr-FR" sz="3200" spc="-1" strike="noStrike">
                <a:solidFill>
                  <a:srgbClr val="ffff66"/>
                </a:solidFill>
                <a:latin typeface="Arial"/>
                <a:ea typeface="Arial"/>
              </a:rPr>
              <a:t>In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Electronic Register of computer programs, databases and topologies of integrated circu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1042920" y="115920"/>
            <a:ext cx="77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P State Electronic Regis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611280" y="1052640"/>
            <a:ext cx="79214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Record of registration + Actual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Records of changes + Actual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042920" y="115920"/>
            <a:ext cx="77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Structure of record in Electronic Regis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7" name="Object 6"/>
          <p:cNvGraphicFramePr/>
          <p:nvPr/>
        </p:nvGraphicFramePr>
        <p:xfrm>
          <a:off x="755640" y="2997360"/>
          <a:ext cx="7132680" cy="31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2997360"/>
                    <a:ext cx="7132680" cy="31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4"/>
          <p:cNvSpPr/>
          <p:nvPr/>
        </p:nvSpPr>
        <p:spPr>
          <a:xfrm>
            <a:off x="1828800" y="1066680"/>
            <a:ext cx="54086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ff66"/>
                </a:solidFill>
                <a:latin typeface="Calibri"/>
              </a:rPr>
              <a:t>Chan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  <a:ea typeface="Arial"/>
              </a:rPr>
              <a:t>Auth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  <a:ea typeface="Arial"/>
              </a:rPr>
              <a:t>CorrespondenceAddres</a:t>
            </a:r>
            <a:r>
              <a:rPr b="1" lang="en-US" sz="1600" spc="-1" strike="noStrike">
                <a:solidFill>
                  <a:srgbClr val="ffff66"/>
                </a:solidFill>
                <a:latin typeface="Calibri"/>
                <a:ea typeface="Arial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</a:rPr>
              <a:t>Continu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  <a:ea typeface="Arial"/>
              </a:rPr>
              <a:t>Group of invention patent renew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  <a:ea typeface="Arial"/>
              </a:rPr>
              <a:t>Invention patent renew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</a:rPr>
              <a:t>Discontinuatio</a:t>
            </a:r>
            <a:r>
              <a:rPr b="1" lang="en-US" sz="1600" spc="-1" strike="noStrike">
                <a:solidFill>
                  <a:srgbClr val="ffff66"/>
                </a:solidFill>
                <a:latin typeface="Calibri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  <a:ea typeface="Arial"/>
              </a:rPr>
              <a:t>Total patent termin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  <a:ea typeface="Arial"/>
              </a:rPr>
              <a:t>Partial patent termin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  <a:ea typeface="Arial"/>
              </a:rPr>
              <a:t>Author's certificate termin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  <a:ea typeface="Arial"/>
              </a:rPr>
              <a:t>Invention patent termin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  <a:ea typeface="Arial"/>
              </a:rPr>
              <a:t>Group of invention patent termin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</a:rPr>
              <a:t>LegalStat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  <a:ea typeface="Arial"/>
              </a:rPr>
              <a:t>Alienation of the exclusive r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  <a:ea typeface="Arial"/>
              </a:rPr>
              <a:t>Transfer of the exclusive r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</a:rPr>
              <a:t>Lic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Calibri"/>
              </a:rPr>
              <a:t>Ot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042920" y="115920"/>
            <a:ext cx="77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ypes of changes stored in Electronic Regi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611280" y="1052640"/>
            <a:ext cx="79214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1042920" y="115920"/>
            <a:ext cx="77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xample of actual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7" name="Object 6"/>
          <p:cNvGraphicFramePr/>
          <p:nvPr/>
        </p:nvGraphicFramePr>
        <p:xfrm>
          <a:off x="1143000" y="1066680"/>
          <a:ext cx="6885000" cy="555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1066680"/>
                    <a:ext cx="6885000" cy="555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4"/>
          <p:cNvSpPr/>
          <p:nvPr/>
        </p:nvSpPr>
        <p:spPr>
          <a:xfrm>
            <a:off x="611280" y="1052640"/>
            <a:ext cx="79214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042920" y="115920"/>
            <a:ext cx="77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xample of ST.96 XML describing actual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Object 7"/>
          <p:cNvGraphicFramePr/>
          <p:nvPr/>
        </p:nvGraphicFramePr>
        <p:xfrm>
          <a:off x="685800" y="1066680"/>
          <a:ext cx="7904160" cy="553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066680"/>
                    <a:ext cx="7904160" cy="553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7:54:34Z</dcterms:created>
  <dc:creator>Dyuzhev</dc:creator>
  <dc:description/>
  <dc:language>en-US</dc:language>
  <cp:lastModifiedBy>Geraldine Rodriguez</cp:lastModifiedBy>
  <dcterms:modified xsi:type="dcterms:W3CDTF">2014-05-20T07:58:30Z</dcterms:modified>
  <cp:revision>146</cp:revision>
  <dc:subject/>
  <dc:title>Slid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