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1640" cy="383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73600" cy="45990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5929B9-57DA-4761-A037-0B1A16344EB3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6B608-C50F-40A0-9034-5BB9F7322F5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063F9-956A-42FF-B09C-24929856D41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46B1E-F180-4542-BB83-2B3B9FCA26D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46BB7-F643-44DD-B29F-7B4051576DBA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9E691-213F-4F14-8EFC-C3F1F6C347B6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F67B7-B910-436F-9A1C-81F73CD131C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E0DB4-C0AC-4452-A906-8DF3A9E3B7BB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454F9-7393-476F-88D0-332E1AE732B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BD32A-C877-49FD-97CB-635E4519AA14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D3F56-4A3E-4893-9CDE-584CC4308690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6AA5C-9C9D-4FC7-B477-D37EAAFCC4C8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CF98B-14CF-4741-BE6E-458722902A0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B55B4-F72F-42D3-A17B-C7C4780590BD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83E5C-399E-4BAB-80FA-BB5FAF8FB59C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E1989-E057-4307-BD99-D01997C587F5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4021200" y="9721800"/>
            <a:ext cx="3070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6ED44-CD95-4882-A78D-0C9D994D4051}" type="slidenum">
              <a:rPr b="0" lang="ru-RU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A3A-20E9-4179-8FD6-7F98D2A2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ECB-2860-4A49-8F28-B3A592FA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F83-9446-46B3-956C-66028BA9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EC8B-7522-48C5-A6E8-042FF7A3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904A-C4D6-4001-9ABA-871DDE66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99A-1BE4-4857-8D8D-61208654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447F-0B2B-441B-9A0E-CEC36034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C57F-456B-48DF-85D6-9DB9D43D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181-FEF3-4C0B-BB96-4D701181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DEC-82E9-4539-9551-F32D5138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0C02-979E-487A-86FF-E6A5376A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E528-E6C9-44DC-BEE6-2613884B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82A3E-3922-44FD-A280-41535FBF170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99640" y="2133360"/>
            <a:ext cx="74898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Application of ST.96 XML and other WIPO XML standards at ROSPA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868320" cy="981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116000" y="115920"/>
            <a:ext cx="77407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Federal Institute of Industrial Proper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Lucida Sans Unicode"/>
              </a:rPr>
              <a:t>(ROSPATE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124000" y="4724280"/>
            <a:ext cx="65534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Yury Zont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Engineer at Software Application Development Divi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otd3138@rupto.ru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  <a:ea typeface="Lucida Sans Unicode"/>
              </a:rPr>
              <a:t>yury.zontov@g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XML describing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762120" y="1066680"/>
          <a:ext cx="7543800" cy="56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066680"/>
                    <a:ext cx="754380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ub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24000" y="1052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New publishing system (2014-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Official publication on website in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continuous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rinting of formal documents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immediately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fter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Publication of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full descriptions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for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 invention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XML formats:  </a:t>
            </a:r>
            <a:r>
              <a:rPr b="1" lang="en-US" sz="3200" spc="-1" strike="noStrike">
                <a:solidFill>
                  <a:srgbClr val="66ff66"/>
                </a:solidFill>
                <a:latin typeface="Arial"/>
              </a:rPr>
              <a:t>ST.96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after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rimary tasks and fun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Office Open XML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(.docx) to XML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ST.36/ST.96</a:t>
            </a:r>
            <a:br>
              <a:rPr sz="2600"/>
            </a:b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conver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user-friendly profiles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for displaying XML in</a:t>
            </a:r>
            <a:br>
              <a:rPr sz="2600"/>
            </a:b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 browsers (tune-up on-fly XS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publication in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PDF/A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(with ontology in RD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repository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of XSL, DTDs, XS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web-service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for retrieving data via XML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publication of </a:t>
            </a:r>
            <a:r>
              <a:rPr b="1" lang="en-US" sz="2600" spc="-1" strike="noStrike">
                <a:solidFill>
                  <a:srgbClr val="66ff66"/>
                </a:solidFill>
                <a:latin typeface="Arial"/>
              </a:rPr>
              <a:t>current state</a:t>
            </a:r>
            <a:r>
              <a:rPr b="1" lang="en-US" sz="2600" spc="-1" strike="noStrike">
                <a:solidFill>
                  <a:srgbClr val="ffff66"/>
                </a:solidFill>
                <a:latin typeface="Arial"/>
              </a:rPr>
              <a:t> of IP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xamples of “current state indicat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66ff66"/>
                </a:solidFill>
                <a:latin typeface="Arial"/>
              </a:rPr>
              <a:t>green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in effe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fee for las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yellow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may be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discontinu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no fees for la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2"/>
          <a:srcRect l="1153" t="24532" r="4960" b="5088"/>
          <a:stretch/>
        </p:blipFill>
        <p:spPr>
          <a:xfrm>
            <a:off x="4284720" y="1773360"/>
            <a:ext cx="4681440" cy="234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"/>
          <p:cNvPicPr/>
          <p:nvPr/>
        </p:nvPicPr>
        <p:blipFill>
          <a:blip r:embed="rId3"/>
          <a:stretch/>
        </p:blipFill>
        <p:spPr>
          <a:xfrm>
            <a:off x="4284720" y="4292640"/>
            <a:ext cx="468144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xamples of “current state indicator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3500" spc="-1" strike="noStrike">
                <a:solidFill>
                  <a:srgbClr val="ff3300"/>
                </a:solidFill>
                <a:latin typeface="Arial"/>
              </a:rPr>
              <a:t>red</a:t>
            </a: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:</a:t>
            </a:r>
            <a:br>
              <a:rPr sz="3500"/>
            </a:br>
            <a:r>
              <a:rPr b="1" lang="en-US" sz="35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atent terminat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no fees or 20 years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 have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1042920" y="115920"/>
            <a:ext cx="77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60692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08000" y="0"/>
            <a:ext cx="612720" cy="692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  <a:ea typeface="Lucida Sans Unicode"/>
              </a:rPr>
              <a:t>Thank you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042920" y="115920"/>
            <a:ext cx="77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spects of official publications of Rospatent in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Formal 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x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Public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IP life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Oper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International applications via Madrid System (MEC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appl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(Not  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 u="sng">
                <a:solidFill>
                  <a:srgbClr val="ffff66"/>
                </a:solidFill>
                <a:uFillTx/>
                <a:latin typeface="Calibri"/>
              </a:rPr>
              <a:t>I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New electronic application syst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ic appl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gistration of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316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e of X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Lucida Sans Unicode"/>
              </a:rPr>
              <a:t>Opera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Trademarks and Service marks , Wellknown marks and geographical indications (ST.6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inventions, industrial designs and utility models (ST.9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	</a:t>
            </a: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	</a:t>
            </a:r>
            <a:r>
              <a:rPr b="0" lang="fr-FR" sz="3200" spc="-1" strike="noStrike">
                <a:solidFill>
                  <a:srgbClr val="ffff66"/>
                </a:solidFill>
                <a:latin typeface="Calibri"/>
                <a:ea typeface="Arial"/>
              </a:rPr>
              <a:t> </a:t>
            </a:r>
            <a:r>
              <a:rPr b="1" lang="fr-FR" sz="3200" spc="-1" strike="noStrike">
                <a:solidFill>
                  <a:srgbClr val="ffff66"/>
                </a:solidFill>
                <a:latin typeface="Arial"/>
                <a:ea typeface="Arial"/>
              </a:rPr>
              <a:t>In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Electronic Register of computer programs, databases and topologies of integrated circu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42920" y="11592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P State Electronic Regi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cord of registration +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66"/>
                </a:solidFill>
                <a:latin typeface="Calibri"/>
              </a:rPr>
              <a:t>Records of changes + Actual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042920" y="11592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tructure of record in Electronic Regis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" name="Object 6"/>
          <p:cNvGraphicFramePr/>
          <p:nvPr/>
        </p:nvGraphicFramePr>
        <p:xfrm>
          <a:off x="755640" y="2997360"/>
          <a:ext cx="7132680" cy="31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2997360"/>
                    <a:ext cx="7132680" cy="31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1828800" y="1066680"/>
            <a:ext cx="5408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66"/>
                </a:solidFill>
                <a:latin typeface="Calibri"/>
              </a:rPr>
              <a:t>Chan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uth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CorrespondenceAddres</a:t>
            </a:r>
            <a:r>
              <a:rPr b="1" lang="en-US" sz="1600" spc="-1" strike="noStrike">
                <a:solidFill>
                  <a:srgbClr val="ffff66"/>
                </a:solidFill>
                <a:latin typeface="Calibri"/>
                <a:ea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Continu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Group of invention patent renew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Invention patent renew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Discontinuatio</a:t>
            </a:r>
            <a:r>
              <a:rPr b="1" lang="en-US" sz="1600" spc="-1" strike="noStrike">
                <a:solidFill>
                  <a:srgbClr val="ffff66"/>
                </a:solidFill>
                <a:latin typeface="Calibri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Total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Partial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uthor's certificate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Invention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Group of invention patent termin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LegalStat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Alienation of the exclusiv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  <a:ea typeface="Arial"/>
              </a:rPr>
              <a:t>Transfer of the exclusiv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ffff66"/>
                </a:solidFill>
                <a:latin typeface="Calibri"/>
              </a:rPr>
              <a:t>Lic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Calibri"/>
              </a:rPr>
              <a:t>O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ypes of changes stored in Electronic Regi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143000" y="1066680"/>
          <a:ext cx="6885000" cy="555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066680"/>
                    <a:ext cx="6885000" cy="55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108000" y="146160"/>
            <a:ext cx="612720" cy="691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611280" y="1052640"/>
            <a:ext cx="7921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42920" y="115920"/>
            <a:ext cx="77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ample of ST.96 XML describing actual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Object 7"/>
          <p:cNvGraphicFramePr/>
          <p:nvPr/>
        </p:nvGraphicFramePr>
        <p:xfrm>
          <a:off x="685800" y="1066680"/>
          <a:ext cx="7904160" cy="553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066680"/>
                    <a:ext cx="7904160" cy="55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7:54:34Z</dcterms:created>
  <dc:creator>Dyuzhev</dc:creator>
  <dc:description/>
  <dc:language>en-US</dc:language>
  <cp:lastModifiedBy>Geraldine Rodriguez</cp:lastModifiedBy>
  <dcterms:modified xsi:type="dcterms:W3CDTF">2014-05-20T07:58:30Z</dcterms:modified>
  <cp:revision>146</cp:revision>
  <dc:subject/>
  <dc:title>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