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18F9-D6BB-4522-9800-7D602AC3745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942A9-8E06-4C84-ABA5-8144FB67EC5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FBB5-C6EC-4A80-BCC1-C79D9EA882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F6F7F-FC4C-4AE6-AA13-2C3EFFCB3C1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E5495-7463-41BB-8DDB-D17EDFC1192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28F47-3384-4FD8-8BC0-AC7F998E57D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46320-75C9-4B75-AD0A-1E01E76B553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D5D04-11F6-49B7-936E-662F04E555D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D893-2A6A-4A4B-A778-374A9590731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31D0-8077-4EAB-9FC6-2F6B3E89714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DFC0B-7E6A-4F2E-8DAE-32716B8AE20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66449-06B7-4FD7-A24A-38CDF88D513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461E9-E9AE-4B63-9B13-5269D07349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82967-76FE-4CC8-BB44-9521BD42E61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B1029-8262-41CF-A5EB-7593C907432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2A822-6D20-44E1-8D4C-08C58303599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01360-4CF5-4F2C-AE31-A886C119AAD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DBD-743F-40D9-98E4-8B60442F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3D8-3654-4338-B2E8-0968A295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528-A0BE-4396-A73A-D6F67952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BC6-7D09-414D-B15E-F28CC9C6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871-A72F-4BC9-9770-413BDDC3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1CF-B1A6-4E6D-8BE1-01D69B2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89B-6E99-4805-854A-487E3C2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9B9-706B-4CA6-BF4D-A455CE5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DB5-A593-4E13-983B-70C35C3D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476-AEE2-42EC-8798-ED1B688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189-3B78-424E-9CB3-6C4EFDE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560-5530-41F1-87E3-1AB772E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26B77-DC07-4A12-B3A1-DA33CC09BEF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 of ST.96 XML and other WIPO XML standards 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4724280"/>
            <a:ext cx="65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XML describ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762120" y="1066680"/>
          <a:ext cx="75438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5438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ublishing system (2014-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fficial publication on website in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ntinuou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ting of formal document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full description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or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invention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ML formats: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ST.96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imary tasks and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Office Open XML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(.docx) to XML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ST.36/ST.96</a:t>
            </a:r>
            <a:br>
              <a:rPr sz="2600"/>
            </a:b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conve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user-friendly profiles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displaying XML in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browsers (tune-up on-fly XS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in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PDF/A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(with ontology in R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repositor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XSL, DTDs, X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web-servic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retrieving data via XML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current stat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IP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in effe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ee for las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yellow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may be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discontinu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for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rcRect l="1153" t="24532" r="4960" b="5088"/>
          <a:stretch/>
        </p:blipFill>
        <p:spPr>
          <a:xfrm>
            <a:off x="4284720" y="1773360"/>
            <a:ext cx="4681440" cy="234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46814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termina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or 20 year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have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69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International applications via Madrid System (ME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Not  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Lucida Sans Unicode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Trademarks and Service marks , Wellknown marks and geographical indications (ST.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ventions, industrial designs and utility model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  <a:ea typeface="Arial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computer programs, databases and topologies of integrated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 of registration +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s of changes + Actua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042920" y="1159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tructure of record in Electronic 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755640" y="2997360"/>
          <a:ext cx="713268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97360"/>
                    <a:ext cx="7132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828800" y="1066680"/>
            <a:ext cx="540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Calibri"/>
              </a:rPr>
              <a:t>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CorrespondenceAddres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  <a:ea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Contin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Discontinuatio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ot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Parti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's certificate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egal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lienation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ransfer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ypes of changes stored in Electronic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143000" y="1066680"/>
          <a:ext cx="688500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66680"/>
                    <a:ext cx="688500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ST.96 XML describing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685800" y="1066680"/>
          <a:ext cx="790416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66680"/>
                    <a:ext cx="79041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7:54:34Z</dcterms:created>
  <dc:creator>Dyuzhev</dc:creator>
  <dc:description/>
  <dc:language>en-US</dc:language>
  <cp:lastModifiedBy>Geraldine Rodriguez</cp:lastModifiedBy>
  <dcterms:modified xsi:type="dcterms:W3CDTF">2014-05-20T07:58:30Z</dcterms:modified>
  <cp:revision>146</cp:revision>
  <dc:subject/>
  <dc:title>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