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D2F0BD6-BB1F-4529-863D-2232A09827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2034530-AAFB-45CB-A38E-B8064CAAE5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2F68-FEB5-4B2A-AC55-2ACEEBE8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CC8C-6899-4B56-91F9-335AEEB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3C84-7D5A-4963-9FAE-009E473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0916-3DB0-4B62-9CE0-74AEE55F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390D-77C4-4C5D-8C98-A8658AF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43D9-BEE8-4620-90BF-49DF8172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C507-C11B-4A05-BEE0-1BA02A4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E784-5761-40F0-B93F-B213606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469D-B479-44A2-9D5E-6883E52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F55B-227A-4795-AF76-2B384E8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7573-F03E-416A-B357-FD7CE24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5086-3F19-46C5-9AD6-5FD51CF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 rot="5400000">
            <a:off x="4559760" y="244188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rot="5400000">
            <a:off x="4559760" y="-265824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37488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781B-9352-4AF2-9297-D6D98FEC8D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2"/>
          <p:cNvSpPr/>
          <p:nvPr/>
        </p:nvSpPr>
        <p:spPr>
          <a:xfrm>
            <a:off x="3019320" y="6367320"/>
            <a:ext cx="314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395520" y="6345360"/>
            <a:ext cx="278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4"/>
          <p:cNvSpPr/>
          <p:nvPr/>
        </p:nvSpPr>
        <p:spPr>
          <a:xfrm>
            <a:off x="939960" y="4919760"/>
            <a:ext cx="3135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0620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PTO activities related to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 rot="5400000">
            <a:off x="3070440" y="2846880"/>
            <a:ext cx="597240" cy="673884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738840" y="5303880"/>
            <a:ext cx="2405160" cy="598320"/>
          </a:xfrm>
          <a:prstGeom prst="rect">
            <a:avLst/>
          </a:prstGeom>
          <a:solidFill>
            <a:srgbClr val="cd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772320" y="604332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dpm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gister.dpma.de/DPMAregister/pat/register?lang=en&amp;AKZ=1020060546970&amp;CURSOR=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3280" y="1619280"/>
            <a:ext cx="755784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PMA activities and plans related to the WIPO Standards dealing with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73280" y="3060360"/>
            <a:ext cx="75578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sentation during CWS 4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Plarre; Dr. Katja Bra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Patent and Trade Mark Office (DP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386-C926-4E17-881A-1E2D869548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/>
          <p:cNvSpPr/>
          <p:nvPr/>
        </p:nvSpPr>
        <p:spPr>
          <a:xfrm>
            <a:off x="1703520" y="3132000"/>
            <a:ext cx="271440" cy="1828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03120" y="376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701720" y="5054760"/>
            <a:ext cx="271440" cy="666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17280 h 666720"/>
              <a:gd name="textAreaBottom" fmla="*/ 6494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30120" y="5116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.36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517B-3487-45E9-B1D6-073A0A84F7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6576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1703520" y="2179800"/>
            <a:ext cx="271440" cy="3819240"/>
          </a:xfrm>
          <a:custGeom>
            <a:avLst/>
            <a:gdLst>
              <a:gd name="textAreaLeft" fmla="*/ 173520 w 271440"/>
              <a:gd name="textAreaRight" fmla="*/ 271800 w 271440"/>
              <a:gd name="textAreaTop" fmla="*/ 99360 h 3819240"/>
              <a:gd name="textAreaBottom" fmla="*/ 3719880 h 38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3120" y="3578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D9EA-5676-4671-98C1-7F746EAF5E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703520" y="2341440"/>
            <a:ext cx="271440" cy="3695760"/>
          </a:xfrm>
          <a:custGeom>
            <a:avLst/>
            <a:gdLst>
              <a:gd name="textAreaLeft" fmla="*/ 173520 w 271440"/>
              <a:gd name="textAreaRight" fmla="*/ 271800 w 271440"/>
              <a:gd name="textAreaTop" fmla="*/ 96120 h 3695760"/>
              <a:gd name="textAreaBottom" fmla="*/ 3599640 h 369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3120" y="39038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ABF-0D56-4896-97FD-09DD3F0B43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2847960" y="1990800"/>
            <a:ext cx="3398760" cy="338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62640" y="2327400"/>
            <a:ext cx="20952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05480" y="2327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00440" y="267156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 for patents, utility models, trade marks and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7027920" y="2711520"/>
            <a:ext cx="1000080" cy="458280"/>
            <a:chOff x="7027920" y="2711520"/>
            <a:chExt cx="1000080" cy="458280"/>
          </a:xfrm>
        </p:grpSpPr>
        <p:sp>
          <p:nvSpPr>
            <p:cNvPr id="107" name="Rectangle 7"/>
            <p:cNvSpPr/>
            <p:nvPr/>
          </p:nvSpPr>
          <p:spPr>
            <a:xfrm>
              <a:off x="7027920" y="2722680"/>
              <a:ext cx="1000080" cy="447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7075440" y="2711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7026120" y="3225960"/>
            <a:ext cx="1000440" cy="44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074000" y="321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36960" y="5113440"/>
            <a:ext cx="1581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026120" y="2205360"/>
            <a:ext cx="1000080" cy="458280"/>
            <a:chOff x="7026120" y="2205360"/>
            <a:chExt cx="1000080" cy="458280"/>
          </a:xfrm>
        </p:grpSpPr>
        <p:sp>
          <p:nvSpPr>
            <p:cNvPr id="113" name="Rectangle 13"/>
            <p:cNvSpPr/>
            <p:nvPr/>
          </p:nvSpPr>
          <p:spPr>
            <a:xfrm>
              <a:off x="7026120" y="221616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073640" y="22053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6667560" y="237168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656400" y="2827440"/>
            <a:ext cx="36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664320" y="346392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70560" y="3946680"/>
            <a:ext cx="2095200" cy="128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08640" y="393552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522680" y="4356000"/>
            <a:ext cx="21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online access to register and public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035840" y="4367520"/>
            <a:ext cx="1000080" cy="458280"/>
            <a:chOff x="7035840" y="4367520"/>
            <a:chExt cx="1000080" cy="458280"/>
          </a:xfrm>
        </p:grpSpPr>
        <p:sp>
          <p:nvSpPr>
            <p:cNvPr id="122" name="Rectangle 22"/>
            <p:cNvSpPr/>
            <p:nvPr/>
          </p:nvSpPr>
          <p:spPr>
            <a:xfrm>
              <a:off x="7035840" y="437832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083360" y="4367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24"/>
          <p:cNvSpPr/>
          <p:nvPr/>
        </p:nvSpPr>
        <p:spPr>
          <a:xfrm>
            <a:off x="7034040" y="4881600"/>
            <a:ext cx="100044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7081920" y="4871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7034040" y="3861000"/>
            <a:ext cx="1000080" cy="458280"/>
            <a:chOff x="7034040" y="3861000"/>
            <a:chExt cx="1000080" cy="458280"/>
          </a:xfrm>
        </p:grpSpPr>
        <p:sp>
          <p:nvSpPr>
            <p:cNvPr id="127" name="Rectangle 27"/>
            <p:cNvSpPr/>
            <p:nvPr/>
          </p:nvSpPr>
          <p:spPr>
            <a:xfrm>
              <a:off x="7034040" y="387180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7081560" y="386100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9"/>
          <p:cNvSpPr/>
          <p:nvPr/>
        </p:nvSpPr>
        <p:spPr>
          <a:xfrm>
            <a:off x="6675480" y="40273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6669000" y="457848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6672240" y="51195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332080" y="2327400"/>
            <a:ext cx="210492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327400" y="23353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341440" y="26848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filing of 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949320" y="270180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996840" y="26920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947880" y="320508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995400" y="319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947880" y="2195640"/>
            <a:ext cx="1000080" cy="447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95400" y="218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955800" y="1660680"/>
            <a:ext cx="100008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965160" y="165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3"/>
          <p:cNvSpPr/>
          <p:nvPr/>
        </p:nvSpPr>
        <p:spPr>
          <a:xfrm>
            <a:off x="1960560" y="2922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1968480" y="337824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1957320" y="1900080"/>
            <a:ext cx="381240" cy="4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311560" y="3940200"/>
            <a:ext cx="2104920" cy="129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2173320" y="3943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atenab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2320920" y="433548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ekly data and documents from the DPMA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936720" y="386064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984240" y="385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1938240" y="407196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14680" y="3413520"/>
            <a:ext cx="23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internal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974880" y="5432400"/>
            <a:ext cx="276120" cy="85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973080" y="5554800"/>
            <a:ext cx="276120" cy="7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973080" y="5964120"/>
            <a:ext cx="276120" cy="114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973080" y="5678640"/>
            <a:ext cx="276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0"/>
          <p:cNvSpPr/>
          <p:nvPr/>
        </p:nvSpPr>
        <p:spPr>
          <a:xfrm>
            <a:off x="1380960" y="5564160"/>
            <a:ext cx="49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used (with different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1"/>
          <p:cNvSpPr/>
          <p:nvPr/>
        </p:nvSpPr>
        <p:spPr>
          <a:xfrm>
            <a:off x="1276200" y="5429160"/>
            <a:ext cx="133560" cy="486000"/>
          </a:xfrm>
          <a:custGeom>
            <a:avLst/>
            <a:gdLst>
              <a:gd name="textAreaLeft" fmla="*/ 0 w 133560"/>
              <a:gd name="textAreaRight" fmla="*/ 48240 w 1335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379520" y="591480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planed to be used (with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934920" y="43830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982800" y="437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1936800" y="45943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944640" y="49068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992160" y="489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0"/>
          <p:cNvSpPr/>
          <p:nvPr/>
        </p:nvSpPr>
        <p:spPr>
          <a:xfrm>
            <a:off x="1946160" y="51181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1"/>
          <p:cNvSpPr/>
          <p:nvPr/>
        </p:nvSpPr>
        <p:spPr>
          <a:xfrm>
            <a:off x="6654960" y="30258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7043760" y="5396040"/>
            <a:ext cx="1000080" cy="44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024680" y="541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M-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6680160" y="5299200"/>
            <a:ext cx="35244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7"/>
          <p:cNvSpPr/>
          <p:nvPr/>
        </p:nvSpPr>
        <p:spPr>
          <a:xfrm>
            <a:off x="1959120" y="245412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3587760" y="1430280"/>
            <a:ext cx="210492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9"/>
          <p:cNvSpPr/>
          <p:nvPr/>
        </p:nvSpPr>
        <p:spPr>
          <a:xfrm>
            <a:off x="3583080" y="1397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p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3635280" y="165456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 for pat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2184480" y="1413000"/>
            <a:ext cx="1000080" cy="447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2"/>
          <p:cNvSpPr/>
          <p:nvPr/>
        </p:nvSpPr>
        <p:spPr>
          <a:xfrm>
            <a:off x="2232000" y="1402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3"/>
          <p:cNvSpPr/>
          <p:nvPr/>
        </p:nvSpPr>
        <p:spPr>
          <a:xfrm>
            <a:off x="3195720" y="1671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4"/>
          <p:cNvSpPr/>
          <p:nvPr/>
        </p:nvSpPr>
        <p:spPr>
          <a:xfrm>
            <a:off x="971640" y="5819760"/>
            <a:ext cx="276120" cy="7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5"/>
          <p:cNvSpPr/>
          <p:nvPr/>
        </p:nvSpPr>
        <p:spPr>
          <a:xfrm>
            <a:off x="981000" y="6143760"/>
            <a:ext cx="27648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6"/>
          <p:cNvSpPr/>
          <p:nvPr/>
        </p:nvSpPr>
        <p:spPr>
          <a:xfrm>
            <a:off x="1387440" y="609408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e of ST.26 not decided y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0AB9-5C5C-4894-A626-7BA3413EE9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690480" y="1301400"/>
            <a:ext cx="778212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3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36 are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6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8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8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2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9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F5A-7732-451F-AA15-AE979711EA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views for differ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687680" y="3438720"/>
            <a:ext cx="29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ublis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092560" y="261936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0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85B-5AF9-4F17-B338-46428DB36A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6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7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ffice specific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87680" y="343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documents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092560" y="26193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are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361800" y="2397240"/>
            <a:ext cx="1028880" cy="765000"/>
          </a:xfrm>
          <a:prstGeom prst="wedgeRoundRectCallout">
            <a:avLst>
              <a:gd name="adj1" fmla="val 80865"/>
              <a:gd name="adj2" fmla="val 6701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3"/>
          <p:cNvSpPr/>
          <p:nvPr/>
        </p:nvSpPr>
        <p:spPr>
          <a:xfrm>
            <a:off x="7748640" y="1992240"/>
            <a:ext cx="1028520" cy="765360"/>
          </a:xfrm>
          <a:prstGeom prst="wedgeRoundRectCallout">
            <a:avLst>
              <a:gd name="adj1" fmla="val -76236"/>
              <a:gd name="adj2" fmla="val 5871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CE1-03ED-46CC-8579-A37F85BF26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missing in XM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represents data during life time of an IP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only represents snap shot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used by DPMAregister and DPMA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used by DPMAdirekt, DPMAdatenabgabe, Depa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52560" y="4880880"/>
            <a:ext cx="7191360" cy="862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requires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not considered in WIPO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1231-168B-47B5-AB81-DBA87ACBB6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1076400" y="311580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egister.dpma.de/DPMAregister/pat/register?lang=en&amp;AKZ=1020060546970&amp;CURSOR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E0A7-FCD7-49A9-AEBF-B9CD71DB3C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76400" y="281124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DB8-01A9-49F7-BF9A-40942558A4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968480" y="1384200"/>
            <a:ext cx="6189840" cy="47102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1704960" y="2019240"/>
            <a:ext cx="271440" cy="790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703520" y="2855880"/>
            <a:ext cx="271440" cy="3200400"/>
          </a:xfrm>
          <a:custGeom>
            <a:avLst/>
            <a:gdLst>
              <a:gd name="textAreaLeft" fmla="*/ 173520 w 271440"/>
              <a:gd name="textAreaRight" fmla="*/ 271800 w 2714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80880" y="22248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03120" y="41421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976400" y="4705200"/>
            <a:ext cx="6181920" cy="276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7029360" y="3009960"/>
            <a:ext cx="1895400" cy="1533600"/>
          </a:xfrm>
          <a:prstGeom prst="borderCallout1">
            <a:avLst>
              <a:gd name="adj1" fmla="val 18750"/>
              <a:gd name="adj2" fmla="val -8333"/>
              <a:gd name="adj3" fmla="val 109939"/>
              <a:gd name="adj4" fmla="val -4673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"publication reference" requires sequence, which is not considered in ST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1:55:10Z</dcterms:created>
  <dc:creator>FrHennig</dc:creator>
  <dc:description/>
  <dc:language>en-US</dc:language>
  <cp:lastModifiedBy>Geraldine Rodriguez</cp:lastModifiedBy>
  <dcterms:modified xsi:type="dcterms:W3CDTF">2014-05-20T07:57:25Z</dcterms:modified>
  <cp:revision>6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