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57D0-6413-49B2-815B-3A1BAE34AC5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F3DF1-1906-4BE1-B0D6-B75A651D4B4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5FB52-4BB5-4A90-9D96-5077D9402F0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A1448-875A-4996-8ABB-D276D729C70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07FD-9A99-439C-81B5-465BA5EFDAD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1CDF5-3162-4E61-B7C4-98E994E022E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A6DDD-0CF2-41D2-9112-14ADABBF3E1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E3415-85CF-4E68-BDAF-E6ED25946FF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63A7-10B9-4F0F-94EA-DBF55248686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B2D57-E170-4CA5-AFC5-9379028326B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C5B30-7799-4CD1-89E0-E7CC8E22FB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6533C-E769-4AF1-B987-CCAFD8804E5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46C8-4288-4F9B-B263-0CA1E4EA72A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9215C-DC7F-4199-BD9F-5A0AD0683D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CD4D0-FA49-46EC-BEB9-878078682B8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C2E48-3456-4E66-B7AC-EBACC5AC75D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479C-3FB1-43AD-9A4B-CEF076C6F23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81020-799F-4C11-90D7-DE71B32C0C4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5025C-6801-43DD-8138-893BE1884E8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A14-9842-455B-82BC-D927953B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733-CAF8-4DF5-8469-0AECA1A2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2D3-A796-4A0F-B16B-2D39BF35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8BF-8B21-4FA4-871D-DE47A104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7E9-155F-4107-80E8-41265BB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D2C-BF15-4B4D-ACE8-76A15AB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297-1627-482E-A493-736FA8C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662-A4E9-4E67-B89A-4102B6A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0BC-0FF6-494F-BAF8-609E7B6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AC3-7FAD-4A68-BEEA-52DBB86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209-1D75-48A4-84E6-2BCB0B6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0D9-009E-4E5C-ABE1-DC46466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500A9-DE5F-4051-A0E2-F5118063F6F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s of WIPO XM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33720" y="4292640"/>
            <a:ext cx="6553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-Programm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152280" y="1066680"/>
            <a:ext cx="8839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 Registers of trademarks and service marks</a:t>
            </a:r>
            <a:r>
              <a:rPr b="0" lang="en-US" sz="2800" spc="-1" strike="noStrike">
                <a:solidFill>
                  <a:srgbClr val="ffff66"/>
                </a:solidFill>
                <a:latin typeface="Calibri"/>
              </a:rPr>
              <a:t>, </a:t>
            </a: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wellknown marks and geographical indications (ST.6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 Registers of inventions and utility models (ST.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Electronic</a:t>
            </a:r>
            <a:r>
              <a:rPr b="0" lang="fr-F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Calibri"/>
              </a:rPr>
              <a:t>Registers of computer programs, databases and topologies of integrated circuits (ST.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dustrial design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Main page of publications por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763640" y="1049400"/>
            <a:ext cx="5784840" cy="56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erson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662120" y="1341360"/>
            <a:ext cx="5819760" cy="3333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407880" y="501336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s will be able to choose what parts and types of documents they will rece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oice will be done by selecting necessary parts and types for every kind of IP or by selecting one of the preconfigured pro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Search for Official Pub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24000" y="1219320"/>
            <a:ext cx="5959440" cy="5325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6516720" y="121932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s will be able to search documents on Portal of pub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arch will be available in the following fiel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Ide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d of I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docu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42920" y="115920"/>
            <a:ext cx="77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rch for Official Publications (extende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761080" cy="5168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6307200" y="164304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extended search will be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ded search will include search in the following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reg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fi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Representation of a Docu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4896000" cy="5543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6095880" y="137160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TML representation is a result of server XSL transformation of XML document in ST96 for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New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Publication of data from IP State Electronic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Asynchronous loading of docu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Streaming media files using HTML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RSS subscriptions and access via web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F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Блок-схема: магнитный диск 2"/>
          <p:cNvSpPr/>
          <p:nvPr/>
        </p:nvSpPr>
        <p:spPr>
          <a:xfrm>
            <a:off x="6948360" y="1808280"/>
            <a:ext cx="1584360" cy="1439640"/>
          </a:xfrm>
          <a:prstGeom prst="flowChartMagneticDisk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Electronic State Regi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Улыбающееся лицо 3"/>
          <p:cNvSpPr/>
          <p:nvPr/>
        </p:nvSpPr>
        <p:spPr>
          <a:xfrm>
            <a:off x="598320" y="183996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5"/>
          <p:cNvSpPr/>
          <p:nvPr/>
        </p:nvSpPr>
        <p:spPr>
          <a:xfrm>
            <a:off x="814320" y="2273400"/>
            <a:ext cx="0" cy="5760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 flipH="1">
            <a:off x="492120" y="2425680"/>
            <a:ext cx="627120" cy="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 flipH="1">
            <a:off x="492120" y="2849400"/>
            <a:ext cx="309600" cy="4572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ая соединительная линия 12"/>
          <p:cNvSpPr/>
          <p:nvPr/>
        </p:nvSpPr>
        <p:spPr>
          <a:xfrm>
            <a:off x="819000" y="2849400"/>
            <a:ext cx="300240" cy="457200"/>
          </a:xfrm>
          <a:prstGeom prst="line">
            <a:avLst/>
          </a:prstGeom>
          <a:ln w="93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3203640" y="1832040"/>
            <a:ext cx="1800000" cy="143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Storage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17"/>
          <p:cNvSpPr/>
          <p:nvPr/>
        </p:nvSpPr>
        <p:spPr>
          <a:xfrm>
            <a:off x="1476360" y="2238480"/>
            <a:ext cx="1582920" cy="711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Стрелка вправо 26"/>
          <p:cNvSpPr/>
          <p:nvPr/>
        </p:nvSpPr>
        <p:spPr>
          <a:xfrm>
            <a:off x="5129280" y="2197080"/>
            <a:ext cx="1584360" cy="7113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Стрелка вправо 20"/>
          <p:cNvSpPr/>
          <p:nvPr/>
        </p:nvSpPr>
        <p:spPr>
          <a:xfrm rot="5400000">
            <a:off x="7247160" y="3656520"/>
            <a:ext cx="984240" cy="576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28"/>
          <p:cNvSpPr/>
          <p:nvPr/>
        </p:nvSpPr>
        <p:spPr>
          <a:xfrm>
            <a:off x="6840360" y="4581360"/>
            <a:ext cx="1800360" cy="935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b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Облако 21"/>
          <p:cNvSpPr/>
          <p:nvPr/>
        </p:nvSpPr>
        <p:spPr>
          <a:xfrm>
            <a:off x="3174840" y="5229360"/>
            <a:ext cx="2016360" cy="115236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W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Стрелка вниз 22"/>
          <p:cNvSpPr/>
          <p:nvPr/>
        </p:nvSpPr>
        <p:spPr>
          <a:xfrm>
            <a:off x="3419640" y="3452760"/>
            <a:ext cx="684000" cy="1476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трелка вниз 23"/>
          <p:cNvSpPr/>
          <p:nvPr/>
        </p:nvSpPr>
        <p:spPr>
          <a:xfrm rot="10800000">
            <a:off x="4157280" y="3452400"/>
            <a:ext cx="647640" cy="14763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2700360" y="4067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ic communication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33"/>
          <p:cNvSpPr/>
          <p:nvPr/>
        </p:nvSpPr>
        <p:spPr>
          <a:xfrm>
            <a:off x="1441440" y="29908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4"/>
          <p:cNvSpPr/>
          <p:nvPr/>
        </p:nvSpPr>
        <p:spPr>
          <a:xfrm>
            <a:off x="5191200" y="29908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189000" y="4067280"/>
            <a:ext cx="199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XML TF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 do not always have timely opportunity to consider the IPO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apid changes in national legis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The work of different TFs is inter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ational extensions of WIPO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e.g. Transaction, Notifications, E-Renew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isting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Planned to launch in 20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New electronic pub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Calibri"/>
              </a:rPr>
              <a:t>M</a:t>
            </a: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dule for receiving applications from external information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Will accept applications from trusted information systems for all types of legal actions on all objects of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Will work with legally significant correspondence on all types of legal actions on all objects of intellectual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Applications Mo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Intersystem interactions via SO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Use of WIPO standard ST.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Mandatory use of electronic signatures at all stage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316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y features of Applications Mod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11280" y="31680"/>
            <a:ext cx="77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.96 in Applications Mod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600200" y="1371600"/>
          <a:ext cx="5916600" cy="432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71600"/>
                    <a:ext cx="59166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1065240" y="586728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chema for RUTrademark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PO</dc:creator>
  <dc:description/>
  <dc:language>en-US</dc:language>
  <cp:lastModifiedBy>RODRIGUEZ Geraldine</cp:lastModifiedBy>
  <dcterms:modified xsi:type="dcterms:W3CDTF">2016-03-22T16:11:56Z</dcterms:modified>
  <cp:revision>25</cp:revision>
  <dc:subject>CWS/4BIS</dc:subject>
  <dc:title> Applications of WIPO XML Standards at ROSPAT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