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1640" cy="383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4A7CD-DC70-451E-99A3-E5A98466C6F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FD214-8A1C-4145-B5C6-B0080C93968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1B25C-8BDD-48E1-89F2-A21B57B90FA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809A3-B746-4F39-A10C-E5A6D7A73F7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E1B61-70A7-4A68-A67F-2260658157A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AEF82-0F68-404F-9BC1-7073AD6E489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25E1D-6421-4876-B673-BDE032F65E1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63620-626E-45C8-8AF5-32A8478F7D7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6FB8C-BC79-4837-819A-B856E5E9441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6F5B7-39C3-4E0C-823A-62D551DF404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4C96-EA55-4AFC-AE3B-0F35F6C7CE6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E39C-30A4-43A0-B61F-0F1B0E7AAAE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4A06E-EF11-42CF-90C1-C04726D3FCF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AECFD-4041-4EDC-91FA-62B6C9E5087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0C8BC-7954-476E-B3EA-C159B80E6D7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95B54-E605-4742-AC82-014ACFD8556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03888-5FD2-4597-B4F3-779213FEB65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815-30B1-4E4B-9957-B30CBE33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C44-AD07-44CE-8F2F-185C8109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FDC-C78D-47EE-9D5E-7998191B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8F2-F955-4048-9914-B95AEF66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C22-5CC2-442C-8171-2F87E0ED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4EE-B35B-49C7-B4B0-E79CADF7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53A-42EC-4928-ACCF-15395E21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419-5863-4160-A16D-3BD7E5BF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8A0-DFB5-48D5-927F-079CE55D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0B9-7670-41E8-9850-EEA9756A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695-B412-4532-B7BF-94CC014B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99B-9B21-4A67-95B3-833DBFF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60433-11A7-40EF-A05F-90DA5DCBB7E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lication of ST.96 XML and other WIPO XML standards at ROS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683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16000" y="115920"/>
            <a:ext cx="774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ederal Institute of Industri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ROSPAT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24000" y="4724280"/>
            <a:ext cx="6553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 Zont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Engineer at Software Application Developmen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otd3138@rupto.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.zontov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XML describing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762120" y="1066680"/>
          <a:ext cx="7543800" cy="56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5438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ublishing system (2014-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fficial publication on website in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continuou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ting of formal document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immediatel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full description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for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invention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ML formats: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ST.96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imary tasks and fun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Office Open XML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(.docx) to XML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ST.36/ST.96</a:t>
            </a:r>
            <a:br>
              <a:rPr sz="2600"/>
            </a:b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conve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user-friendly profiles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displaying XML in</a:t>
            </a:r>
            <a:br>
              <a:rPr sz="2600"/>
            </a:b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browsers (tune-up on-fly XS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in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PDF/A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(with ontology in RD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repository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XSL, DTDs, X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web-servic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retrieving data via XML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current stat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IP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66ff66"/>
                </a:solidFill>
                <a:latin typeface="Arial"/>
              </a:rPr>
              <a:t>green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in effe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ee for las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yellow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may be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discontinu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for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rcRect l="1153" t="24532" r="4960" b="5088"/>
          <a:stretch/>
        </p:blipFill>
        <p:spPr>
          <a:xfrm>
            <a:off x="4284720" y="1773360"/>
            <a:ext cx="4681440" cy="234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4284720" y="4292640"/>
            <a:ext cx="46814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termina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or 20 year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have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6069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Lucida Sans Unicode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42920" y="1159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Form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International applications via Madrid System (ME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Not  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New 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Lucida Sans Unicode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Trademarks and Service marks , Wellknown marks and geographical indications (ST.6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inventions, industrial designs and utility models 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 </a:t>
            </a:r>
            <a:r>
              <a:rPr b="1" lang="fr-FR" sz="3200" spc="-1" strike="noStrike">
                <a:solidFill>
                  <a:srgbClr val="ffff66"/>
                </a:solidFill>
                <a:latin typeface="Arial"/>
                <a:ea typeface="Arial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computer programs, databases and topologies of integrated circ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 State Electronic Regi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 of registration +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s of changes + Actua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042920" y="11592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tructure of record in Electronic 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755640" y="2997360"/>
          <a:ext cx="7132680" cy="31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997360"/>
                    <a:ext cx="71326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828800" y="1066680"/>
            <a:ext cx="5408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Calibri"/>
              </a:rPr>
              <a:t>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CorrespondenceAddres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  <a:ea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Contin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Discontinuatio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ot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Parti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's certificate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egal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lienation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ransfer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ypes of changes stored in Electronic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143000" y="1066680"/>
          <a:ext cx="6885000" cy="555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66680"/>
                    <a:ext cx="6885000" cy="55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ST.96 XML describing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685800" y="1066680"/>
          <a:ext cx="7904160" cy="553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66680"/>
                    <a:ext cx="790416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7:54:34Z</dcterms:created>
  <dc:creator>Dyuzhev</dc:creator>
  <dc:description/>
  <dc:language>en-US</dc:language>
  <cp:lastModifiedBy>Geraldine Rodriguez</cp:lastModifiedBy>
  <dcterms:modified xsi:type="dcterms:W3CDTF">2014-05-20T07:58:30Z</dcterms:modified>
  <cp:revision>146</cp:revision>
  <dc:subject/>
  <dc:title>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