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5392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52720" y="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E6B2-BBC7-44E6-8A81-882343FA5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5236-B171-4F08-83A9-5AAC8FB815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0FA2-EB42-4455-AE88-7C16177DBB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166-AF8F-4D08-BF62-E1ABCEB0F2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12880" y="2890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8960" y="4070520"/>
            <a:ext cx="54486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4774-8733-499A-8893-84E8A008BA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690E-53DE-416C-8D68-D1C472769B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0EC-4DC6-4757-B0EC-8E3861B25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12880" y="64944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8960" y="4610160"/>
            <a:ext cx="54486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32C1-17B0-4A87-94F1-D34CE05105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12880" y="16200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8960" y="3852360"/>
            <a:ext cx="5448600" cy="62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89C0-2E79-4B8C-B155-8312F95052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695D-E51A-4130-8488-0CA1326E9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1B3B-6F96-4507-A392-44B91DDD3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1963-D5B1-47DB-9407-D4A528A6A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04EB-E76C-4EA6-AE0A-DD366732B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004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308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00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004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308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6F44-AEBD-4822-B3E9-845FCDBC7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5101-A049-4926-97E3-3AC0E10CE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85D7-1CAD-4B0D-BC3E-AD09FD03A9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22CC-A7CE-480A-BEFF-DEA782A52C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5EF1-5AF0-4696-94D4-04B92BEA4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1EBA-9C08-4A8C-A81C-1D39A6CD75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1880" y="115920"/>
            <a:ext cx="762948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1820-0D5A-4769-BF0A-CA72B05A62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9F29-54CC-4FB7-9C4B-E52D2D990A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B3C5-1A69-4631-A634-312791464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1018-D8F7-4356-845D-4BC91FFF2F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DCC7-9E24-4EA1-8596-9389FCFF7D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20C0-6FCB-4783-95C2-B6C91FD148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6763-833D-4D06-A06A-B406A5F33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004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308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00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004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308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7055-83A9-4444-B758-29A1C025C7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1BE5-BF81-4547-B5EF-B68A21798B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1880" y="115920"/>
            <a:ext cx="762948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8004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308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700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8004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8308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2BB3-1ECB-435E-8B64-9ED76724B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3204-7A75-46FF-9F77-CC30B0FD5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1880" y="115920"/>
            <a:ext cx="762948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356D-B416-41B7-B6D7-07BE53392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54FE-7ADC-4770-B3AB-B35B2D3E5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2C4F-252B-4F0F-8133-791316549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F631-E3BA-406F-8FE1-A7285C1BB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329240" y="6552720"/>
            <a:ext cx="222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1488-AE35-4B05-9E51-F0A494A9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AutoShape 6"/>
          <p:cNvSpPr/>
          <p:nvPr/>
        </p:nvSpPr>
        <p:spPr>
          <a:xfrm flipV="1">
            <a:off x="192240" y="548280"/>
            <a:ext cx="929304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" name="Picture 5" descr="特許庁和文ロゴ"/>
          <p:cNvPicPr/>
          <p:nvPr/>
        </p:nvPicPr>
        <p:blipFill>
          <a:blip r:embed="rId2"/>
          <a:stretch/>
        </p:blipFill>
        <p:spPr>
          <a:xfrm>
            <a:off x="7891560" y="0"/>
            <a:ext cx="156348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329240" y="6552720"/>
            <a:ext cx="222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9CB-4459-4898-9C03-EDBEAF488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"/>
          <p:cNvSpPr/>
          <p:nvPr/>
        </p:nvSpPr>
        <p:spPr>
          <a:xfrm flipV="1">
            <a:off x="190440" y="6237360"/>
            <a:ext cx="929484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flipV="1" rot="5400000">
            <a:off x="5721480" y="3394080"/>
            <a:ext cx="662616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AutoShape 6"/>
          <p:cNvSpPr/>
          <p:nvPr/>
        </p:nvSpPr>
        <p:spPr>
          <a:xfrm flipV="1">
            <a:off x="123840" y="549000"/>
            <a:ext cx="922500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AutoShape 7"/>
          <p:cNvSpPr/>
          <p:nvPr/>
        </p:nvSpPr>
        <p:spPr>
          <a:xfrm flipV="1" rot="5400000">
            <a:off x="-2778120" y="3468960"/>
            <a:ext cx="67057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2" name="Picture 6" descr="日本国特許庁"/>
          <p:cNvPicPr/>
          <p:nvPr/>
        </p:nvPicPr>
        <p:blipFill>
          <a:blip r:embed="rId2"/>
          <a:stretch/>
        </p:blipFill>
        <p:spPr>
          <a:xfrm>
            <a:off x="7862760" y="28440"/>
            <a:ext cx="487440" cy="5050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9"/>
          <p:cNvGrpSpPr/>
          <p:nvPr/>
        </p:nvGrpSpPr>
        <p:grpSpPr>
          <a:xfrm>
            <a:off x="8312040" y="0"/>
            <a:ext cx="1198800" cy="720000"/>
            <a:chOff x="8312040" y="0"/>
            <a:chExt cx="1198800" cy="720000"/>
          </a:xfrm>
        </p:grpSpPr>
        <p:sp>
          <p:nvSpPr>
            <p:cNvPr id="84" name="Text Box 7"/>
            <p:cNvSpPr/>
            <p:nvPr/>
          </p:nvSpPr>
          <p:spPr>
            <a:xfrm>
              <a:off x="8579160" y="115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FC明朝体-B"/>
                </a:rPr>
                <a:t>特許庁</a:t>
              </a:r>
              <a:endParaRPr b="1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8421120" y="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Arial"/>
                  <a:ea typeface="FC明朝体-B"/>
                </a:rPr>
                <a:t>経済産業省　</a:t>
              </a:r>
              <a:endParaRPr b="1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8312040" y="382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Rounded MT Bold"/>
                  <a:ea typeface="FC明朝体-B"/>
                </a:rPr>
                <a:t>Japan Patent Office</a:t>
              </a:r>
              <a:r>
                <a:rPr b="1" lang="ja-JP" sz="800" spc="-1" strike="noStrike">
                  <a:solidFill>
                    <a:srgbClr val="000000"/>
                  </a:solidFill>
                  <a:latin typeface="Arial Rounded MT Bold"/>
                  <a:ea typeface="FC明朝体-B"/>
                </a:rPr>
                <a:t>　</a:t>
              </a:r>
              <a:endParaRPr b="1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3B7F-6FB9-4460-A769-F7513970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09640" y="1665360"/>
            <a:ext cx="7848720" cy="36716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6666ff"/>
              </a:gs>
            </a:gsLst>
            <a:lin ang="27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gress Report on Work for Establishing Mechanisms for Feedback and Analysis on WOISAs /ISR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487560" y="440064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9 February 2014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892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CT/MIA Quality Subgroup Meet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スライド番号プレースホルダー 2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F4F4-FA1E-4131-9B54-8D8C713F5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0720" y="27306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 Math"/>
                <a:ea typeface="Cambria Math"/>
              </a:rPr>
              <a:t>Thank you</a:t>
            </a:r>
            <a:r>
              <a:rPr b="1" lang="ja-JP" sz="4000" spc="-1" strike="noStrike">
                <a:solidFill>
                  <a:srgbClr val="0000ff"/>
                </a:solidFill>
                <a:latin typeface="Cambria Math"/>
                <a:ea typeface="ＭＳ 明朝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 Math"/>
                <a:ea typeface="Cambria Math"/>
              </a:rPr>
              <a:t>for your attention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0CBF-B8E2-49D0-8D5D-E5B44B01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892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t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33280" y="981000"/>
            <a:ext cx="92538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892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Backgrou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5892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hase 3: Collaborative analysis conducted by EPO and J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Unicode MS"/>
                <a:ea typeface="ＭＳ Ｐゴシック"/>
              </a:rPr>
              <a:t>Analysis resul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Unicode MS"/>
                <a:ea typeface="ＭＳ Ｐゴシック"/>
              </a:rPr>
              <a:t>Shared view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5892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Future pl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ilot project (Quality Feedback System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Implementation of Phase 3 with developed methodolog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正方形/長方形 8"/>
          <p:cNvSpPr/>
          <p:nvPr/>
        </p:nvSpPr>
        <p:spPr>
          <a:xfrm>
            <a:off x="738360" y="2570040"/>
            <a:ext cx="7632360" cy="4216680"/>
          </a:xfrm>
          <a:prstGeom prst="rect">
            <a:avLst/>
          </a:prstGeom>
          <a:solidFill>
            <a:srgbClr val="ffff00">
              <a:alpha val="13000"/>
            </a:srgbClr>
          </a:solidFill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角丸四角形 236"/>
          <p:cNvSpPr/>
          <p:nvPr/>
        </p:nvSpPr>
        <p:spPr>
          <a:xfrm>
            <a:off x="1525680" y="2846520"/>
            <a:ext cx="6089400" cy="310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ckground 1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8920" y="657360"/>
            <a:ext cx="788508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At the third Quality Subgro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, the JPO introduced a framework as part of the “PCT Kaizen” proposal: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under which ISAs analyze and utilize feedback on WOISAs/ISRs from designated Offices that conducted First Actions;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under which the results of analysis conducted by ISAs are shared with the designated Offices, as well as with other offices when appropriate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42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59F-04BF-4B0E-9A81-59FAC1D0F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テキスト ボックス 3"/>
          <p:cNvSpPr/>
          <p:nvPr/>
        </p:nvSpPr>
        <p:spPr>
          <a:xfrm>
            <a:off x="990720" y="2448000"/>
            <a:ext cx="701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Ebrima"/>
              </a:rPr>
              <a:t>Proposed framework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4" name="図 5" descr="S:\1品質監理室係長等業務\5各室員作業フォルダ\9川村(20121001-)\品質サブグループ\品質FB\スペイン\図1.png"/>
          <p:cNvPicPr/>
          <p:nvPr/>
        </p:nvPicPr>
        <p:blipFill>
          <a:blip r:embed="rId1"/>
          <a:stretch/>
        </p:blipFill>
        <p:spPr>
          <a:xfrm>
            <a:off x="1525680" y="2846520"/>
            <a:ext cx="60894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ckground 2: relevant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8920" y="1052640"/>
            <a:ext cx="788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The EPO and JPO started Phase 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llaborative Metrics Study in 2013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offices have collaboratively conducted 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a manual sample-based analysis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Both offices have been considering a three-step analysis consisting of a structured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ata analysis and a manual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ampling analysis under the EPO’s lead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  <a:ea typeface="Cambria Math"/>
              </a:rPr>
              <a:t>Phase 3 involves</a:t>
            </a:r>
            <a:r>
              <a:rPr b="0" lang="en-US" sz="1600" spc="-1" strike="noStrike" u="sng">
                <a:solidFill>
                  <a:srgbClr val="161645"/>
                </a:solidFill>
                <a:uFillTx/>
                <a:latin typeface="Arial"/>
                <a:ea typeface="Cambria Math"/>
              </a:rPr>
              <a:t> a more detailed collaborative review of a sample of files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  <a:ea typeface="Cambria Math"/>
              </a:rPr>
              <a:t>, for which there were discrepancies in sear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mbria Math"/>
              </a:rPr>
              <a:t>and/o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  <a:ea typeface="Cambria Math"/>
              </a:rPr>
              <a:t>r examination results between the international and the national/regional stages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ality Feedback System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raft template was produced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47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5A5D-8C24-44B6-8E3D-4658548C1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000" y="15228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Methodology 1 (File selection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280" y="1701720"/>
            <a:ext cx="8174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45"/>
                </a:solidFill>
                <a:latin typeface="Arial"/>
              </a:rPr>
              <a:t>Randomly selected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wo types of files in which there would be “maximal divergence”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mendments before the FAs </a:t>
            </a:r>
            <a:r>
              <a:rPr b="0" lang="en-US" sz="2000" spc="-1" strike="noStrike">
                <a:solidFill>
                  <a:srgbClr val="161645"/>
                </a:solidFill>
                <a:latin typeface="Arial"/>
              </a:rPr>
              <a:t>at the national stage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50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C12C-9CA6-4D3C-BA56-282A8D3E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51" name="グループ化 9"/>
          <p:cNvGrpSpPr/>
          <p:nvPr/>
        </p:nvGrpSpPr>
        <p:grpSpPr>
          <a:xfrm>
            <a:off x="882720" y="2619360"/>
            <a:ext cx="7272360" cy="699840"/>
            <a:chOff x="882720" y="2619360"/>
            <a:chExt cx="7272360" cy="699840"/>
          </a:xfrm>
        </p:grpSpPr>
        <p:sp>
          <p:nvSpPr>
            <p:cNvPr id="152" name="正方形/長方形 4"/>
            <p:cNvSpPr/>
            <p:nvPr/>
          </p:nvSpPr>
          <p:spPr>
            <a:xfrm>
              <a:off x="882720" y="2619360"/>
              <a:ext cx="727236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) Type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: JP-ISR 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 onl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PO-FA (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with 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1) Type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: JPO-ISR (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with 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PO-FA 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 onl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cxnSp>
          <p:nvCxnSpPr>
            <p:cNvPr id="153" name="直線矢印コネクタ 6"/>
            <p:cNvCxnSpPr/>
            <p:nvPr/>
          </p:nvCxnSpPr>
          <p:spPr>
            <a:xfrm>
              <a:off x="5011920" y="2816640"/>
              <a:ext cx="479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4" name="直線矢印コネクタ 8"/>
            <p:cNvCxnSpPr/>
            <p:nvPr/>
          </p:nvCxnSpPr>
          <p:spPr>
            <a:xfrm>
              <a:off x="5022360" y="3140640"/>
              <a:ext cx="479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000" y="15228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Methodology 2 (Review process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1D2F-270D-46B4-8733-44DB702F2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テキスト ボックス 4"/>
          <p:cNvSpPr/>
          <p:nvPr/>
        </p:nvSpPr>
        <p:spPr>
          <a:xfrm>
            <a:off x="773280" y="987480"/>
            <a:ext cx="12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J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テキスト ボックス 6"/>
          <p:cNvSpPr/>
          <p:nvPr/>
        </p:nvSpPr>
        <p:spPr>
          <a:xfrm>
            <a:off x="2141640" y="692280"/>
            <a:ext cx="50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1: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examining whether reasons for refusal in terms of novelty or inventive step can be set up with the XY documents </a:t>
            </a:r>
            <a:r>
              <a:rPr b="1" lang="en-US" sz="1800" spc="-1" strike="noStrike">
                <a:solidFill>
                  <a:srgbClr val="0000ff"/>
                </a:solidFill>
                <a:latin typeface="Arial Unicode MS"/>
              </a:rPr>
              <a:t>based on laws/standards at the JPO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テキスト ボックス 7"/>
          <p:cNvSpPr/>
          <p:nvPr/>
        </p:nvSpPr>
        <p:spPr>
          <a:xfrm>
            <a:off x="7370640" y="2759040"/>
            <a:ext cx="125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E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テキスト ボックス 8"/>
          <p:cNvSpPr/>
          <p:nvPr/>
        </p:nvSpPr>
        <p:spPr>
          <a:xfrm>
            <a:off x="738360" y="4508640"/>
            <a:ext cx="1258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J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テキスト ボックス 13"/>
          <p:cNvSpPr/>
          <p:nvPr/>
        </p:nvSpPr>
        <p:spPr>
          <a:xfrm>
            <a:off x="738360" y="1995480"/>
            <a:ext cx="478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2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sending comments on each file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テキスト ボックス 14"/>
          <p:cNvSpPr/>
          <p:nvPr/>
        </p:nvSpPr>
        <p:spPr>
          <a:xfrm>
            <a:off x="4591080" y="2457360"/>
            <a:ext cx="302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3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viewing the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es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Unicode MS"/>
              </a:rPr>
              <a:t>based on the law/guidelines at the EPO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テキスト ボックス 18"/>
          <p:cNvSpPr/>
          <p:nvPr/>
        </p:nvSpPr>
        <p:spPr>
          <a:xfrm>
            <a:off x="1962000" y="4400640"/>
            <a:ext cx="47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5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reviewing the EPO’s comments and summarizing the results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正方形/長方形 21"/>
          <p:cNvSpPr/>
          <p:nvPr/>
        </p:nvSpPr>
        <p:spPr>
          <a:xfrm>
            <a:off x="1422360" y="1952640"/>
            <a:ext cx="662472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正方形/長方形 22"/>
          <p:cNvSpPr/>
          <p:nvPr/>
        </p:nvSpPr>
        <p:spPr>
          <a:xfrm rot="16200000">
            <a:off x="1062000" y="1736640"/>
            <a:ext cx="612720" cy="10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右矢印 23"/>
          <p:cNvSpPr/>
          <p:nvPr/>
        </p:nvSpPr>
        <p:spPr>
          <a:xfrm rot="5400000">
            <a:off x="7595640" y="2241360"/>
            <a:ext cx="792000" cy="252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正方形/長方形 24"/>
          <p:cNvSpPr/>
          <p:nvPr/>
        </p:nvSpPr>
        <p:spPr>
          <a:xfrm rot="16200000">
            <a:off x="7659720" y="3541680"/>
            <a:ext cx="666720" cy="10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正方形/長方形 25"/>
          <p:cNvSpPr/>
          <p:nvPr/>
        </p:nvSpPr>
        <p:spPr>
          <a:xfrm>
            <a:off x="1314360" y="3789360"/>
            <a:ext cx="662472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右矢印 26"/>
          <p:cNvSpPr/>
          <p:nvPr/>
        </p:nvSpPr>
        <p:spPr>
          <a:xfrm rot="5400000">
            <a:off x="1116360" y="4055040"/>
            <a:ext cx="533520" cy="2523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テキスト ボックス 27"/>
          <p:cNvSpPr/>
          <p:nvPr/>
        </p:nvSpPr>
        <p:spPr>
          <a:xfrm>
            <a:off x="4554360" y="3860640"/>
            <a:ext cx="47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4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sending comments on each file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82720" y="5373720"/>
            <a:ext cx="7704000" cy="971640"/>
          </a:xfrm>
          <a:prstGeom prst="roundRect">
            <a:avLst>
              <a:gd name="adj" fmla="val 5398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It is possible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ly identify the detailed causes of discrepancy </a:t>
            </a: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for each file and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hare insight and information on each case</a:t>
            </a: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files were reviewed based on laws/practices at both offices.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角丸四角形 10"/>
          <p:cNvSpPr/>
          <p:nvPr/>
        </p:nvSpPr>
        <p:spPr>
          <a:xfrm>
            <a:off x="701640" y="2827440"/>
            <a:ext cx="7848720" cy="380520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Analysis resul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45640" y="767880"/>
            <a:ext cx="75963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45"/>
                </a:solidFill>
                <a:latin typeface="Arial"/>
              </a:rPr>
              <a:t>The files were classified under the following cases: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16164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Cases in which differences in practices between ISA/JPO and DO/EPO were the causes of discrepancies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(2)  Cases in which examination results at either ISA/JPO or DO/EPO were possibly inaccurate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75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7A10-38F0-496E-8BFF-D116521CC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530360" y="3139920"/>
            <a:ext cx="3027240" cy="1141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Differences in interpretation of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HGS創英角ｺﾞｼｯｸUB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claims/prior ar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1533600" y="4387680"/>
            <a:ext cx="302400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Differences in approaches of examining inventive step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629240" y="3139920"/>
            <a:ext cx="3024000" cy="1141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Practical differences in dealing with inventions that are business method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  <a:ea typeface="HGS創英角ｺﾞｼｯｸUB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629240" y="4365720"/>
            <a:ext cx="3024000" cy="1103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Possible inaccuracies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Interpretation of claims/prior art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Reasoning for inventive steps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1530360" y="5522760"/>
            <a:ext cx="6122880" cy="9306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Other reasons?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Different legal requirements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Different practices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Classification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Inaccurate searching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Translation and language issues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テキスト ボックス 9"/>
          <p:cNvSpPr/>
          <p:nvPr/>
        </p:nvSpPr>
        <p:spPr>
          <a:xfrm>
            <a:off x="2357280" y="2664000"/>
            <a:ext cx="446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auses of the discrepancies for each file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Shared view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7720" y="755640"/>
            <a:ext cx="836136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Actual situation: 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Discrepancies often occur among the examiners and/or offices because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laws/practices are different among offices 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ome files with potential insufficiencies exist due to incomplete searches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 examination processe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Results of collaborative analysis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Identify the causes of discrepancies among office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hare insight and information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 algn="just">
              <a:lnSpc>
                <a:spcPct val="100000"/>
              </a:lnSpc>
              <a:spcBef>
                <a:spcPts val="437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enefit  of collaborative analysis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eepen mutual understanding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Foster trusting relationship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hare objective results with user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37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eneficial impact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2" marL="754200" indent="-354240"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Improving reusability of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ISR/WO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354240"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Enhancing work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354240"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eveloping PC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ual analysis should be conducted to the maximum extent possible.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84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96F9-AEA1-4A00-9BBF-48E014AF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2B9-10BC-402F-A5D4-455A8DE16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892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uture pla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33280" y="907920"/>
            <a:ext cx="92538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hase 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Continuing Phase 3 by EPO and JPO in 2014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resenting a report at the next PCT/MIA Quality Subgroup Meeting in 201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Considering whether to implement with other interested Office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ality Feedback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Launching a pilot project (1 or 2 years) in early 2014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resenting a progress report at the next PCT/MIA Quality Subgroup Meeting in 201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Evaluating the pilot project in 201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0:46:28Z</dcterms:created>
  <dc:creator>川村　大輔</dc:creator>
  <dc:description/>
  <dc:language>en-US</dc:language>
  <cp:lastModifiedBy>3155</cp:lastModifiedBy>
  <cp:lastPrinted>2014-02-18T02:53:04Z</cp:lastPrinted>
  <dcterms:modified xsi:type="dcterms:W3CDTF">2014-02-20T01:34:25Z</dcterms:modified>
  <cp:revision>920</cp:revision>
  <dc:subject/>
  <dc:title>スライド 0</dc:title>
</cp:coreProperties>
</file>