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3553-A152-41DB-A657-2C9E4A53D8C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3558-4057-4547-A08B-D6FE1D6512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FD41-96CB-430A-9C0D-88A170D84B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70C5-2DE3-4633-8FC0-E044C5CC5C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903E-03FA-46BF-8687-DFBBB26512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F860-A4B9-406B-BB41-DD0FED2DE3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0B2A-F302-4E41-9512-46CD729B03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362D-458D-4C53-A0CC-34F757C69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8873-83F6-4704-8296-3D7A8817A8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59A-EA5B-4D85-9A7C-2469B27420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401F-ADC4-4B79-B90A-1F7E1D2DC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170-E53C-4678-85D7-D5E7BAF928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DA2-531D-4D0A-A18B-3EAC90BBA9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1629-2D28-4D4A-8975-821789B83E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A6C1-AD57-46B6-9541-8B637BCDDA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DC9F9-D7C0-443C-A3A4-5CC29FCE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A266-CAC4-415C-AD27-92545222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F9E7-C563-4D60-B5D9-1D4DFE66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2C51-47E3-4056-B74E-D1FBE03D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CF4EA-9C3C-42D4-8986-CBBEA24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1A58-2F34-4F70-8520-3FDA5929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A361-4C8A-49E1-B878-7D767E9D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8C145-0F54-4799-927E-B365528A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E1DC-4760-4806-882F-95B10EE3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E2AA-FB56-4C97-A845-2BD433D2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DF918-4FF0-47FC-8871-A902472B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6F754-85F1-47E6-A850-36C877A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65AF-BEE9-43ED-953D-52996F27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5961F-F472-4AD5-AD84-BE171639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4B47A-3464-4310-8C86-A531B945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1CBA-89CC-4A24-840C-85844A5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74521-D503-4A69-B396-F203FA6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18E56-25FA-4DC1-9389-616E9DA5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45E12-3DB9-4EA1-9BA2-F46FB879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991F2-A8E8-41B0-A90C-9EFCF46F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3874B-A08F-4512-AF53-D8B95BC7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45F68-2104-429E-A54D-31807C9C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D928-13B9-461E-9EDF-B6620E55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DC22A-05C4-4A94-80C3-AD984D6B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02175-2886-4C3C-B112-1954CE66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0E00-CFDA-4D43-9574-6D0E0B1D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4702F-0C6E-4ED0-949E-AB27F54E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50E8-8F45-4386-8DCA-3AAE657A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F3B56-FA83-4FCB-9769-B27046F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0C6D6-5B09-4DA5-80E1-F6697209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051D0-D39F-4344-A2B3-23FCEBE7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257A3-C142-4DAB-B92D-39F3C9DC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62730-A42B-4D6E-8104-519880F8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B3232-0AF5-4E58-B21A-1E36BAA7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9F89-E586-4FD1-B7ED-D4C0BF88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65103-9B3F-419E-9DF7-E8758F9B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5744B-4C80-4E13-9514-753C32BB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0622E-1A6A-4C51-A0B7-57F25F6F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DC50-30BD-4807-9015-ABA51A2C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C1F43-9CC5-4DED-9FCC-8DA2218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18BFF-7A65-4F3E-B320-50BB55F2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D0D2F-94AB-4AB6-B5A5-506E5E2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D1E7-E694-4577-B5F3-AB86991E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A0E4-36FE-479D-8375-023CBFAD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3CAC6-14E4-44BB-9A48-17074F86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6BE-FE4A-4A64-AB5B-B4E2FCA1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E76-D741-45DD-998D-1CC15E9E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7E9-166E-4E2D-8DA1-DE8F721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38A-7D8F-4C5E-BB98-AC6199B0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7CE-032C-4B12-8E9F-A407434A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063-27E7-4711-82A1-3A543EF7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A61-48F2-4873-A550-2F2C1137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0E7-425B-464A-B7B7-4F57C02D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BF4-1146-4B16-98FA-C1D3495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903-ADFA-496D-B488-F31FD31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4D9-0930-4F02-8C6E-9BB99F48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41F-330A-4792-8510-DFB18A5B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BA34-6718-468E-A3D5-EEFA551A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3D22-FB96-4FF9-91D4-2E2F359C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078E-4093-4C7A-BEAA-5E0318B3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5497-3F3B-40C3-B311-C478110E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B579-A6E2-4E90-AA1A-A8591323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C1F6-9640-4491-B111-50FFFF18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DCFE-EBB1-457B-9B3B-46E754C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8551-3D93-4E09-BE9A-E7E5ECB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289-81C7-4333-A2C0-9EF1B1A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8E66-08D7-4F7A-911C-2CCAE421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FAFF-8282-4461-8DB1-ED97CA7B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9304-5D4D-45DE-BB3D-1C8F12FB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F245-DBF9-46DF-B6FD-9D973C34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BA7C-5B24-4AAA-B870-26A19277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FB56-90E1-46A5-8F58-AF6C782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9273-D815-411E-8387-043A18BF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3EC7-4E1B-475E-8BC4-6CC976DD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89D5-EE46-4675-B610-6A107B72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55EA1-EBCC-41CC-8E7A-017468FC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CBFC-7E1A-48C9-BEF5-AFEA578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EE6F-0149-47DE-8BD3-FBB32B4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BC43-9644-48A2-8DC8-371C5E63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B8F0-18FF-47C6-9D3F-08953554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1B9C-3A0F-4A9F-BE88-82961602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2D8E-0E54-4789-9B98-D8DE1D2D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14B0-27E0-48F2-8E59-D8FED5F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874D-44AD-4453-AE4F-D1DD5FED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11353-76EB-4560-9381-E78AF618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71C6-4286-451A-96C5-1E8ED01E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FDAB-1A8B-4D90-8343-EA6C5773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9A6F-8511-4B52-89DB-4ED2577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5B97-2B99-49E7-91CC-B5781AF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41A9-5E73-492F-B131-6B20AB3D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190C5-B547-4888-AEBE-9158A11B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DA32-F804-491B-A8D8-447E2835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5FA6-34AE-4DDF-8FEF-90A5ED04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1F26-93F2-4D44-BD02-77F73B5D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0C06-0824-421B-95CE-35FB2E7A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3E64-8015-475D-8F83-A73CD711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198-DF0B-4E0B-A1AF-2D6A662FE3E8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1D5-2B6A-46F8-B63C-B84E3F36E034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1FC-2EC7-456F-8192-2E07A9667118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59A4-4BDE-47D9-BD2E-A8EA7D922159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6CF0-3431-4CA5-98BF-4F0A6C9BC6AA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4A1C-7141-4ACF-843B-53C023358613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A629-048C-4FF1-9AC4-AE29CCFF44E9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B1AB-AE24-4119-AA55-E12A91367EC0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10920" y="3287880"/>
            <a:ext cx="77058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eg Pow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pervising Examiner, Phys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0920" y="1638000"/>
            <a:ext cx="7705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Regional Patent Examination Training (RPET)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68000" y="5589720"/>
            <a:ext cx="849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595959"/>
                </a:solidFill>
                <a:latin typeface="Arial"/>
                <a:ea typeface="Arial"/>
              </a:rPr>
              <a:t>http://www.youtube.com/user/IPAustralia (“Regional Patent Examination Training (RPET) Project”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Content Placeholder 5" descr="question-mark1.jpg"/>
          <p:cNvPicPr/>
          <p:nvPr/>
        </p:nvPicPr>
        <p:blipFill>
          <a:blip r:embed="rId1"/>
          <a:stretch/>
        </p:blipFill>
        <p:spPr>
          <a:xfrm>
            <a:off x="2400480" y="1690560"/>
            <a:ext cx="39718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4000" y="1915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rainees report they are gaining new knowledge and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ositive feedback on quality of trainers and onlin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ompetency-based training not widely used or underst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re time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reduced examination targets maximise involvement and benefits from RP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Highlighted differences between national practices and international standards, eg. treatment of dependent cla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4000" y="1699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T security restri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unintended impact on flexible/mobile access for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re flexible access since Oct 2013 esp for online collaboration and virtual classroom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esson learned:  Vital role of local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role not sufficiently defined before commence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greater involvement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visit by local supervisors to IP Australia (October 201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larified requirements and time commitments for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kicked off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Content Placeholder 5" descr="question-mark1.jpg"/>
          <p:cNvPicPr/>
          <p:nvPr/>
        </p:nvPicPr>
        <p:blipFill>
          <a:blip r:embed="rId1"/>
          <a:stretch/>
        </p:blipFill>
        <p:spPr>
          <a:xfrm>
            <a:off x="2400480" y="1690560"/>
            <a:ext cx="39718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058920" y="2565000"/>
            <a:ext cx="532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Greg Powe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Supervising Examiner, Phys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Patents and Plant Breeders Rights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+61 2 6283 23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Greg.Powell@ipaustralia.gov.a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58920" y="1916280"/>
            <a:ext cx="5329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Overview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10920" y="1916280"/>
            <a:ext cx="8064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Introduction to the RPE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course struct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does a typical week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resources and tools are used in the progr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How is the program go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at is the RPET program?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440" y="2349000"/>
            <a:ext cx="8064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 depth training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Focusing on PCT search and examin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Uses e-learning content and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Aims to build patent examination capabilitie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Improving competency of examin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mbedding learning into the workp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ncouraging alignment of domestic practices and international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1"/>
          <p:cNvSpPr/>
          <p:nvPr/>
        </p:nvSpPr>
        <p:spPr>
          <a:xfrm>
            <a:off x="685800" y="177336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f81bd"/>
                </a:solidFill>
                <a:latin typeface="Arial"/>
              </a:rPr>
              <a:t>Distance learning capability for patent examination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39640" y="2565360"/>
            <a:ext cx="8064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able more in depth and comprehensive train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hance patent examination capability in member off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Contribute to greater confidence in the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creased business confid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Facilitate trade and technology transfer in the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rpet intro.png"/>
          <p:cNvPicPr/>
          <p:nvPr/>
        </p:nvPicPr>
        <p:blipFill>
          <a:blip r:embed="rId1"/>
          <a:stretch/>
        </p:blipFill>
        <p:spPr>
          <a:xfrm>
            <a:off x="1560600" y="1484280"/>
            <a:ext cx="5327640" cy="23544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4000" y="400536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ilot launched 8 April 2013 :</a:t>
            </a:r>
            <a:br>
              <a:rPr sz="2000"/>
            </a:b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- six from ASEAN offices (Malaysia, Indonesia, Philippines)</a:t>
            </a:r>
            <a:br>
              <a:rPr sz="2000"/>
            </a:b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- two from Africa (ARIPO and Keny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artnership by ASEAN and IP Australia with support from WIP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Second intake in 2014 with 15 trainees – expanded to include participants from Thailand and Vietn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72840" y="285444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ntensive training and one-on-one support to train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stly conducted online, using e-learning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until trainee achieves competency (up to two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“</a:t>
            </a: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Flipped Classroom” model – focus is on applying the concepts in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ocal supervisor for each trainee works closely with IP Australia’s trainers to monitor and assess trainee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595959"/>
                </a:solidFill>
                <a:latin typeface="Arial"/>
                <a:ea typeface="Arial"/>
              </a:rPr>
              <a:t>Program structure an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Content Placeholder 2" descr=""/>
          <p:cNvPicPr/>
          <p:nvPr/>
        </p:nvPicPr>
        <p:blipFill>
          <a:blip r:embed="rId1"/>
          <a:stretch/>
        </p:blipFill>
        <p:spPr>
          <a:xfrm>
            <a:off x="212760" y="5430960"/>
            <a:ext cx="3335400" cy="920520"/>
          </a:xfrm>
          <a:prstGeom prst="rect">
            <a:avLst/>
          </a:prstGeom>
          <a:ln w="0">
            <a:noFill/>
          </a:ln>
        </p:spPr>
      </p:pic>
      <p:pic>
        <p:nvPicPr>
          <p:cNvPr id="487" name="TextBox 3" descr=""/>
          <p:cNvPicPr/>
          <p:nvPr/>
        </p:nvPicPr>
        <p:blipFill>
          <a:blip r:embed="rId2"/>
          <a:stretch/>
        </p:blipFill>
        <p:spPr>
          <a:xfrm>
            <a:off x="438120" y="4309920"/>
            <a:ext cx="8424720" cy="1176480"/>
          </a:xfrm>
          <a:prstGeom prst="rect">
            <a:avLst/>
          </a:prstGeom>
          <a:ln w="0">
            <a:noFill/>
          </a:ln>
        </p:spPr>
      </p:pic>
      <p:pic>
        <p:nvPicPr>
          <p:cNvPr id="488" name="Content Placeholder 2" descr=""/>
          <p:cNvPicPr/>
          <p:nvPr/>
        </p:nvPicPr>
        <p:blipFill>
          <a:blip r:embed="rId3"/>
          <a:stretch/>
        </p:blipFill>
        <p:spPr>
          <a:xfrm>
            <a:off x="4389480" y="5430960"/>
            <a:ext cx="4505400" cy="920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" descr=""/>
          <p:cNvPicPr/>
          <p:nvPr/>
        </p:nvPicPr>
        <p:blipFill>
          <a:blip r:embed="rId4"/>
          <a:stretch/>
        </p:blipFill>
        <p:spPr>
          <a:xfrm>
            <a:off x="420840" y="2565360"/>
            <a:ext cx="82436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11"/>
          <p:cNvGrpSpPr/>
          <p:nvPr/>
        </p:nvGrpSpPr>
        <p:grpSpPr>
          <a:xfrm>
            <a:off x="423720" y="2633760"/>
            <a:ext cx="2303640" cy="2311560"/>
            <a:chOff x="423720" y="2633760"/>
            <a:chExt cx="2303640" cy="2311560"/>
          </a:xfrm>
        </p:grpSpPr>
        <p:pic>
          <p:nvPicPr>
            <p:cNvPr id="491" name="Picture 3" descr="eresources.jpg"/>
            <p:cNvPicPr/>
            <p:nvPr/>
          </p:nvPicPr>
          <p:blipFill>
            <a:blip r:embed="rId1"/>
            <a:stretch/>
          </p:blipFill>
          <p:spPr>
            <a:xfrm>
              <a:off x="423720" y="2633760"/>
              <a:ext cx="2303640" cy="172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Box 7"/>
            <p:cNvSpPr/>
            <p:nvPr/>
          </p:nvSpPr>
          <p:spPr>
            <a:xfrm>
              <a:off x="723240" y="457704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Online resour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Group 12"/>
          <p:cNvGrpSpPr/>
          <p:nvPr/>
        </p:nvGrpSpPr>
        <p:grpSpPr>
          <a:xfrm>
            <a:off x="5796000" y="2532240"/>
            <a:ext cx="2784600" cy="2658960"/>
            <a:chOff x="5796000" y="2532240"/>
            <a:chExt cx="2784600" cy="2658960"/>
          </a:xfrm>
        </p:grpSpPr>
        <p:pic>
          <p:nvPicPr>
            <p:cNvPr id="494" name="Picture 5" descr="virtualclassroom.jpg"/>
            <p:cNvPicPr/>
            <p:nvPr/>
          </p:nvPicPr>
          <p:blipFill>
            <a:blip r:embed="rId2"/>
            <a:stretch/>
          </p:blipFill>
          <p:spPr>
            <a:xfrm>
              <a:off x="5796000" y="2532240"/>
              <a:ext cx="2784600" cy="20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Box 8"/>
            <p:cNvSpPr/>
            <p:nvPr/>
          </p:nvSpPr>
          <p:spPr>
            <a:xfrm>
              <a:off x="5955840" y="4548600"/>
              <a:ext cx="239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Virtual classrooms &amp; </a:t>
              </a:r>
              <a:br>
                <a:rPr sz="1800"/>
              </a:b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one on one mentor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6" name="Group 13"/>
          <p:cNvGrpSpPr/>
          <p:nvPr/>
        </p:nvGrpSpPr>
        <p:grpSpPr>
          <a:xfrm>
            <a:off x="2649600" y="4502160"/>
            <a:ext cx="3538080" cy="1744920"/>
            <a:chOff x="2649600" y="4502160"/>
            <a:chExt cx="3538080" cy="1744920"/>
          </a:xfrm>
        </p:grpSpPr>
        <p:pic>
          <p:nvPicPr>
            <p:cNvPr id="497" name="Picture 6" descr="colaboration.jpg"/>
            <p:cNvPicPr/>
            <p:nvPr/>
          </p:nvPicPr>
          <p:blipFill>
            <a:blip r:embed="rId3"/>
            <a:stretch/>
          </p:blipFill>
          <p:spPr>
            <a:xfrm>
              <a:off x="3131280" y="4502160"/>
              <a:ext cx="2376360" cy="14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Box 9"/>
            <p:cNvSpPr/>
            <p:nvPr/>
          </p:nvSpPr>
          <p:spPr>
            <a:xfrm>
              <a:off x="2649600" y="5878800"/>
              <a:ext cx="35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Online collaboration &amp; discus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Content Placeholder 14" descr=""/>
          <p:cNvPicPr/>
          <p:nvPr/>
        </p:nvPicPr>
        <p:blipFill>
          <a:blip r:embed="rId4"/>
          <a:stretch/>
        </p:blipFill>
        <p:spPr>
          <a:xfrm>
            <a:off x="2975040" y="2865600"/>
            <a:ext cx="2670120" cy="1457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5"/>
          <a:stretch/>
        </p:blipFill>
        <p:spPr>
          <a:xfrm>
            <a:off x="3359160" y="1020600"/>
            <a:ext cx="1905120" cy="12574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16"/>
          <p:cNvSpPr/>
          <p:nvPr/>
        </p:nvSpPr>
        <p:spPr>
          <a:xfrm>
            <a:off x="3155400" y="23464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ace to face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~b988701"/>
          <p:cNvPicPr/>
          <p:nvPr/>
        </p:nvPicPr>
        <p:blipFill>
          <a:blip r:embed="rId1"/>
          <a:stretch/>
        </p:blipFill>
        <p:spPr>
          <a:xfrm>
            <a:off x="900000" y="1700280"/>
            <a:ext cx="7332840" cy="467496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8073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595959"/>
                </a:solidFill>
                <a:latin typeface="Arial"/>
                <a:ea typeface="Arial"/>
              </a:rPr>
              <a:t>Typical trainee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4:02:12Z</dcterms:created>
  <dc:creator>Vanessa Courtot</dc:creator>
  <dc:description/>
  <dc:language>en-US</dc:language>
  <cp:lastModifiedBy>Greg Powell</cp:lastModifiedBy>
  <dcterms:modified xsi:type="dcterms:W3CDTF">2014-02-05T01:52:36Z</dcterms:modified>
  <cp:revision>39</cp:revision>
  <dc:subject/>
  <dc:title>Heading</dc:title>
</cp:coreProperties>
</file>