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2C4A-C943-40D7-A625-90FC3BBF43C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99D4-656F-453A-AD73-633214A4ED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CA10-4D1B-4D2A-8B30-2FFFF71A7C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FE55-602B-4772-A303-06DEC71254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AAC8-53D8-44D1-8791-EDF1FA2057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5AB1-40E2-4C95-8983-F4EA966A86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0ECD-B637-4D0A-B62C-99A570378D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2E6D-E1E6-4441-AD0F-06EA618DB6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01AA-3D87-43BA-B8D4-6C9C538900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C065-F3AF-440A-9076-A932FBE7FB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4F3C-8AE1-48D4-88C8-FEECC9C60B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D1CE-D43E-4DEE-B16F-09C19A5383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FC33-B9C6-4D69-B186-37D50416EC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A1EC-3109-4462-9B79-43629FC4A6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6487-09EE-4B6D-9724-9F67B1C29E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11BDE-15B9-4BC7-8669-B020696F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C295B-05D0-4EDF-B896-FA0E975A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F6D34-CF2B-42A9-879A-D2569AB8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512E-39B5-4A82-8375-B7DC3CE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763B8-C263-4095-BAE8-283B784D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035E8-33A0-4E4C-83D3-EB8F5980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F4784-3FB2-48E8-B4B8-5E7B9F33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6FECA-FFB5-4F9C-A955-C950A37F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1D080-3274-413B-B673-BC73BABE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5585C-50FC-4FDA-9E49-B1EF87FA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6AD3A-D10F-4ECF-B5E0-A561EEAC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8B65-9F44-44D7-8CC9-A918340A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1072F-8C81-4328-8760-D3D7616B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E06A-FD81-4394-BE08-3757603A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3EA97-BDB8-4DDE-A6AD-CF44FAF7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33B70-AFD8-4736-B7CC-08631506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8CED-E67B-4E31-A653-C0D7C29F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C11BD-91BF-4184-A78F-57577360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B5424-11EC-4705-9D16-6170455D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D7F1A-7AEC-4F11-9216-6BE6426F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72B76-F196-4A37-8C79-25C54919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43A27-6B99-4129-85F1-C4332B30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16C9D-3DAF-4C45-BF32-0BACA90A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94D82-2FAF-4403-AC60-A2406748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8AF77-92E8-4094-B53D-CED3007D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71FD7-C514-4227-80D7-2D10DAD4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6D628-843A-4A28-9F55-ED231F70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74F01-27CB-4992-B640-8CF2FD6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22906-BE25-4009-8663-682B3408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5BFCC-C8A1-4283-BCB4-89D06811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2FC2B-9B25-4B6E-BF16-44401966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80E69-006B-4C08-9227-A0FF78BE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224B9-3498-459E-BE41-CFC949C8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70DB3-0A50-4166-A63F-15B1D016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B4F7A-66B3-4805-9FEA-50ED4114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BA34D-E486-4BF5-AB10-21B3A7FE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3744F-21B6-4121-A4BD-C2D1B069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33788-0679-4CAF-B605-1525CC49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38C05-7812-4D9F-AFFB-30BEB855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6D993-AD7D-41E0-A11B-6FB4EDE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F7721-B166-491B-9D27-043A62AD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96129-41CC-44BB-9D8E-2255898F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CADD6-89A0-4D17-BB59-D7B9105D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31E1F-DE28-4968-AB82-68AB6592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F92E4-3D61-48AE-9849-4F48E4B3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45F-2CD3-4995-BFA0-E0A95638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85A-73A5-47B6-AF03-BD01D38E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473-D97C-451A-B379-1ED68C3B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674-B338-4259-9CE8-53E2F500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1F6-FA01-4C8D-BA23-80BE1FD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815-6064-4B74-8AAA-47780C73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4A8-BF62-4138-840D-BE95F12F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46F-816D-431D-ABA9-B975016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3FA-0DEC-4AFE-84B6-14657DB5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65D-DCD6-4227-97D1-3E416F82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EA0-1B36-46F1-8EE1-ABE19412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EAD-1E93-4C76-8D42-A7738294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34F6-EE2C-4EF6-AB89-1BD58BFF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5FBC-032C-4A8D-8BAF-BBA18120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8AEA-9E24-41F4-9FE3-4440D7BA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94EE-EE05-48BA-AB93-1B87BFAB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B144-7A5E-4674-847F-C8C21316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B479-2B07-4FD5-A0C1-261FC4E6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F9B3-DC41-467D-BEAB-6BF600E2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FBD0-C19F-4727-9C19-E5125F80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C9E2-7649-4C48-A3AF-69FE01A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FCA8-03F1-4BE5-B960-8BF04798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DFBF-BF3E-495B-A1B1-95701CA6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CB8F-6B09-4635-AB1B-EA752855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FDE3-604C-46B0-9B6F-6BA9DA92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121D-605E-482D-9446-39FC864F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D2C8-17B1-4371-BE8C-CF82E61B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86C1-866B-4122-B51D-CE59450F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936D-8087-4C60-BB6A-CE915ADE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1ED8-480C-4260-9308-A3AA9C11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4666-2AFE-4E50-90A5-4C4C8B7D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0EFB-50AC-41B0-9BB3-7DACB7B4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5B1A-AEE2-4BF2-BF36-D687DD6D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56FA-E8FC-49E6-B347-0D7D4EDF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4C8C-1F1C-4112-A571-5CA6C765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DEE8-8A8C-4265-891D-A27052BF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C962B-5427-47FB-BF34-9717A38C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0F2E-FA91-42F3-A29C-5F5FEDE3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EE7E3-6160-4375-8025-0ECBD3C5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3DBC-3546-4B1D-8B3A-37CE965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84F7F-EF55-41FF-9D19-873A573A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188AA-C880-48DC-8376-AC0A232C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60B46-D03A-483A-B26D-2095FC25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8F34-BE8C-4C05-9D94-6ABA4DCC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B5D34-421E-4BC7-A83F-F86B2A4A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0128-263B-4FE9-9A8D-03C89ADB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89DC-ADBD-4EE1-ACDC-72F948BC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6AE5-528C-4566-BBD3-365382AC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D3C3E-EFB0-4BDD-A2DE-90A129EA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B9E66-FB2A-4D3B-A02E-7A4A23BE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084C0-1949-45D4-9978-C9C5B12B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B2E8-4478-4D5F-AFE8-9779DC01B6CB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5860-799D-468D-A802-891B6AD44B57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A260-B67A-47BD-9589-3E1AC2880263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DF23-83E6-4320-BCC1-8A7E28AC1621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A760-E0B3-42F0-BD3D-2B8BCB97B7F8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BEE4-D6A8-468A-8EDF-D0CC196437AE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5435-2379-41C4-A18B-CA45917CD418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C34A-E4BE-4E89-B7F4-3841E268BE6A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10920" y="3287880"/>
            <a:ext cx="77058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eg Pow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pervising Examiner, Phys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0920" y="1638000"/>
            <a:ext cx="7705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  <a:ea typeface="Arial"/>
              </a:rPr>
              <a:t>Regional Patent Examination Training (RPET)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68000" y="5589720"/>
            <a:ext cx="849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595959"/>
                </a:solidFill>
                <a:latin typeface="Arial"/>
                <a:ea typeface="Arial"/>
              </a:rPr>
              <a:t>http://www.youtube.com/user/IPAustralia (“Regional Patent Examination Training (RPET) Project”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Content Placeholder 5" descr="question-mark1.jpg"/>
          <p:cNvPicPr/>
          <p:nvPr/>
        </p:nvPicPr>
        <p:blipFill>
          <a:blip r:embed="rId1"/>
          <a:stretch/>
        </p:blipFill>
        <p:spPr>
          <a:xfrm>
            <a:off x="2400480" y="1690560"/>
            <a:ext cx="39718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Experience so far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4000" y="191592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Trainees report they are gaining new knowledge and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ositive feedback on quality of trainers and onlin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Competency-based training not widely used or underst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re time required than anticip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reduced examination targets maximise involvement and benefits from RP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Highlighted differences between national practices and international standards, eg. treatment of dependent cla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Experience so far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4000" y="169992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IT security restri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unintended impact on flexible/mobile access for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re flexible access since Oct 2013 esp for online collaboration and virtual classrooms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Lesson learned:  Vital role of local supervis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role not sufficiently defined before commencement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greater involvement required than anticip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visit by local supervisors to IP Australia (October 201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clarified requirements and time commitments for supervis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kicked off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Content Placeholder 5" descr="question-mark1.jpg"/>
          <p:cNvPicPr/>
          <p:nvPr/>
        </p:nvPicPr>
        <p:blipFill>
          <a:blip r:embed="rId1"/>
          <a:stretch/>
        </p:blipFill>
        <p:spPr>
          <a:xfrm>
            <a:off x="2400480" y="1690560"/>
            <a:ext cx="39718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058920" y="2565000"/>
            <a:ext cx="5329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Greg Powe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Supervising Examiner, Phys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Patents and Plant Breeders Rights Gro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+61 2 6283 23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Greg.Powell@ipaustralia.gov.a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58920" y="1916280"/>
            <a:ext cx="5329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07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Overview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10920" y="1916280"/>
            <a:ext cx="8064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Introduction to the RPE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is RP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y develop RP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is course struct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does a typical week look li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resources and tools are used in the progra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How is the program go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What is the RPET program?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440" y="2349000"/>
            <a:ext cx="8064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In depth training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Focusing on PCT search and examin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Uses e-learning content and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Aims to build patent examination capabilities b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Improving competency of examin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Embedding learning into the workpl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Encouraging alignment of domestic practices and international standa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1"/>
          <p:cNvSpPr/>
          <p:nvPr/>
        </p:nvSpPr>
        <p:spPr>
          <a:xfrm>
            <a:off x="685800" y="177336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f81bd"/>
                </a:solidFill>
                <a:latin typeface="Arial"/>
              </a:rPr>
              <a:t>Distance learning capability for patent examination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Why develop RPE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39640" y="2565360"/>
            <a:ext cx="8064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Enable more in depth and comprehensive train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Enhance patent examination capability in member off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Contribute to greater confidence in the ri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Increased business confid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Facilitate trade and technology transfer in the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rpet intro.png"/>
          <p:cNvPicPr/>
          <p:nvPr/>
        </p:nvPicPr>
        <p:blipFill>
          <a:blip r:embed="rId1"/>
          <a:stretch/>
        </p:blipFill>
        <p:spPr>
          <a:xfrm>
            <a:off x="1560600" y="1484280"/>
            <a:ext cx="5327640" cy="23544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About the RPET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4000" y="400536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ilot launched 8 April 2013 :</a:t>
            </a:r>
            <a:br>
              <a:rPr sz="2000"/>
            </a:b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- six from ASEAN offices (Malaysia, Indonesia, Philippines)</a:t>
            </a:r>
            <a:br>
              <a:rPr sz="2000"/>
            </a:b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- two from Africa (ARIPO and Keny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artnership by ASEAN and IP Australia with support from WIP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Second intake in 2014 with 15 trainees – expanded to include participants from Thailand and Vietn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About the RPET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72840" y="2854440"/>
            <a:ext cx="80643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Intensive training and one-on-one support to train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stly conducted online, using e-learning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until trainee achieves competency (up to two ye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“</a:t>
            </a: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Flipped Classroom” model – focus is on applying the concepts in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Local supervisor for each trainee works closely with IP Australia’s trainers to monitor and assess trainee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595959"/>
                </a:solidFill>
                <a:latin typeface="Arial"/>
                <a:ea typeface="Arial"/>
              </a:rPr>
              <a:t>Program structure and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Content Placeholder 2" descr=""/>
          <p:cNvPicPr/>
          <p:nvPr/>
        </p:nvPicPr>
        <p:blipFill>
          <a:blip r:embed="rId1"/>
          <a:stretch/>
        </p:blipFill>
        <p:spPr>
          <a:xfrm>
            <a:off x="212760" y="5430960"/>
            <a:ext cx="3335400" cy="920520"/>
          </a:xfrm>
          <a:prstGeom prst="rect">
            <a:avLst/>
          </a:prstGeom>
          <a:ln w="0">
            <a:noFill/>
          </a:ln>
        </p:spPr>
      </p:pic>
      <p:pic>
        <p:nvPicPr>
          <p:cNvPr id="487" name="TextBox 3" descr=""/>
          <p:cNvPicPr/>
          <p:nvPr/>
        </p:nvPicPr>
        <p:blipFill>
          <a:blip r:embed="rId2"/>
          <a:stretch/>
        </p:blipFill>
        <p:spPr>
          <a:xfrm>
            <a:off x="438120" y="4309920"/>
            <a:ext cx="8424720" cy="1176480"/>
          </a:xfrm>
          <a:prstGeom prst="rect">
            <a:avLst/>
          </a:prstGeom>
          <a:ln w="0">
            <a:noFill/>
          </a:ln>
        </p:spPr>
      </p:pic>
      <p:pic>
        <p:nvPicPr>
          <p:cNvPr id="488" name="Content Placeholder 2" descr=""/>
          <p:cNvPicPr/>
          <p:nvPr/>
        </p:nvPicPr>
        <p:blipFill>
          <a:blip r:embed="rId3"/>
          <a:stretch/>
        </p:blipFill>
        <p:spPr>
          <a:xfrm>
            <a:off x="4389480" y="5430960"/>
            <a:ext cx="4505400" cy="920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" descr=""/>
          <p:cNvPicPr/>
          <p:nvPr/>
        </p:nvPicPr>
        <p:blipFill>
          <a:blip r:embed="rId4"/>
          <a:stretch/>
        </p:blipFill>
        <p:spPr>
          <a:xfrm>
            <a:off x="420840" y="2565360"/>
            <a:ext cx="82436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11"/>
          <p:cNvGrpSpPr/>
          <p:nvPr/>
        </p:nvGrpSpPr>
        <p:grpSpPr>
          <a:xfrm>
            <a:off x="423720" y="2633760"/>
            <a:ext cx="2303640" cy="2311560"/>
            <a:chOff x="423720" y="2633760"/>
            <a:chExt cx="2303640" cy="2311560"/>
          </a:xfrm>
        </p:grpSpPr>
        <p:pic>
          <p:nvPicPr>
            <p:cNvPr id="491" name="Picture 3" descr="eresources.jpg"/>
            <p:cNvPicPr/>
            <p:nvPr/>
          </p:nvPicPr>
          <p:blipFill>
            <a:blip r:embed="rId1"/>
            <a:stretch/>
          </p:blipFill>
          <p:spPr>
            <a:xfrm>
              <a:off x="423720" y="2633760"/>
              <a:ext cx="2303640" cy="172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Box 7"/>
            <p:cNvSpPr/>
            <p:nvPr/>
          </p:nvSpPr>
          <p:spPr>
            <a:xfrm>
              <a:off x="723240" y="457704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Online resour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Group 12"/>
          <p:cNvGrpSpPr/>
          <p:nvPr/>
        </p:nvGrpSpPr>
        <p:grpSpPr>
          <a:xfrm>
            <a:off x="5796000" y="2532240"/>
            <a:ext cx="2784600" cy="2658960"/>
            <a:chOff x="5796000" y="2532240"/>
            <a:chExt cx="2784600" cy="2658960"/>
          </a:xfrm>
        </p:grpSpPr>
        <p:pic>
          <p:nvPicPr>
            <p:cNvPr id="494" name="Picture 5" descr="virtualclassroom.jpg"/>
            <p:cNvPicPr/>
            <p:nvPr/>
          </p:nvPicPr>
          <p:blipFill>
            <a:blip r:embed="rId2"/>
            <a:stretch/>
          </p:blipFill>
          <p:spPr>
            <a:xfrm>
              <a:off x="5796000" y="2532240"/>
              <a:ext cx="2784600" cy="20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Box 8"/>
            <p:cNvSpPr/>
            <p:nvPr/>
          </p:nvSpPr>
          <p:spPr>
            <a:xfrm>
              <a:off x="5955840" y="4548600"/>
              <a:ext cx="239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Virtual classrooms &amp; </a:t>
              </a:r>
              <a:br>
                <a:rPr sz="1800"/>
              </a:b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one on one mentor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6" name="Group 13"/>
          <p:cNvGrpSpPr/>
          <p:nvPr/>
        </p:nvGrpSpPr>
        <p:grpSpPr>
          <a:xfrm>
            <a:off x="2649600" y="4502160"/>
            <a:ext cx="3538080" cy="1744920"/>
            <a:chOff x="2649600" y="4502160"/>
            <a:chExt cx="3538080" cy="1744920"/>
          </a:xfrm>
        </p:grpSpPr>
        <p:pic>
          <p:nvPicPr>
            <p:cNvPr id="497" name="Picture 6" descr="colaboration.jpg"/>
            <p:cNvPicPr/>
            <p:nvPr/>
          </p:nvPicPr>
          <p:blipFill>
            <a:blip r:embed="rId3"/>
            <a:stretch/>
          </p:blipFill>
          <p:spPr>
            <a:xfrm>
              <a:off x="3131280" y="4502160"/>
              <a:ext cx="2376360" cy="14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Box 9"/>
            <p:cNvSpPr/>
            <p:nvPr/>
          </p:nvSpPr>
          <p:spPr>
            <a:xfrm>
              <a:off x="2649600" y="5878800"/>
              <a:ext cx="35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Online collaboration &amp; discus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9" name="Content Placeholder 14" descr=""/>
          <p:cNvPicPr/>
          <p:nvPr/>
        </p:nvPicPr>
        <p:blipFill>
          <a:blip r:embed="rId4"/>
          <a:stretch/>
        </p:blipFill>
        <p:spPr>
          <a:xfrm>
            <a:off x="2975040" y="2865600"/>
            <a:ext cx="2670120" cy="14572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5"/>
          <a:stretch/>
        </p:blipFill>
        <p:spPr>
          <a:xfrm>
            <a:off x="3359160" y="1020600"/>
            <a:ext cx="1905120" cy="12574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16"/>
          <p:cNvSpPr/>
          <p:nvPr/>
        </p:nvSpPr>
        <p:spPr>
          <a:xfrm>
            <a:off x="3155400" y="23464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ace to face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~b988701"/>
          <p:cNvPicPr/>
          <p:nvPr/>
        </p:nvPicPr>
        <p:blipFill>
          <a:blip r:embed="rId1"/>
          <a:stretch/>
        </p:blipFill>
        <p:spPr>
          <a:xfrm>
            <a:off x="900000" y="1700280"/>
            <a:ext cx="7332840" cy="467496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8073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595959"/>
                </a:solidFill>
                <a:latin typeface="Arial"/>
                <a:ea typeface="Arial"/>
              </a:rPr>
              <a:t>Typical trainee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4:02:12Z</dcterms:created>
  <dc:creator>Vanessa Courtot</dc:creator>
  <dc:description/>
  <dc:language>en-US</dc:language>
  <cp:lastModifiedBy>Greg Powell</cp:lastModifiedBy>
  <dcterms:modified xsi:type="dcterms:W3CDTF">2014-02-05T01:52:36Z</dcterms:modified>
  <cp:revision>39</cp:revision>
  <dc:subject/>
  <dc:title>Heading</dc:title>
</cp:coreProperties>
</file>