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B4DC-D8BD-428F-9153-4425A64580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BDF6-73E3-47D2-896D-2BDC9EDA39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BB6B-F515-4DB3-AE97-1D73A7B9A2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B6BB-FEB7-4635-8078-13CD601C68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69C7-C930-43C9-AE87-DBE5123DFD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23DC-667A-4066-8007-2956B86D26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 ad hoc but carefully plann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5728-DAA3-4A1F-90CC-50B4AE9397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CABC-6BD2-443F-8F09-9B2F4C140C9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9A10-0B2D-4BD0-91BA-7F92BA12D2A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1DC5-2093-46EF-BA70-E8E8EADCB7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Subtitle 2"/>
          <p:cNvSpPr/>
          <p:nvPr/>
        </p:nvSpPr>
        <p:spPr>
          <a:xfrm>
            <a:off x="633240" y="2602080"/>
            <a:ext cx="6786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Click to edit master subtitle sty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itle 1"/>
          <p:cNvSpPr/>
          <p:nvPr/>
        </p:nvSpPr>
        <p:spPr>
          <a:xfrm>
            <a:off x="633240" y="1677960"/>
            <a:ext cx="67788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itle 1"/>
          <p:cNvSpPr/>
          <p:nvPr/>
        </p:nvSpPr>
        <p:spPr>
          <a:xfrm>
            <a:off x="1062000" y="1587600"/>
            <a:ext cx="16747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ontact 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ubtitle 2"/>
          <p:cNvSpPr/>
          <p:nvPr/>
        </p:nvSpPr>
        <p:spPr>
          <a:xfrm>
            <a:off x="2747880" y="3089160"/>
            <a:ext cx="46846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Calibri"/>
              </a:rPr>
              <a:t>facebook.com/ipaustralia.gov.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Calibri"/>
              </a:rPr>
              <a:t>twitter.com/IPAustra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Calibri"/>
              </a:rPr>
              <a:t>linkedin.com/company/ip-austra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Calibri"/>
              </a:rPr>
              <a:t>youtube.com/user/ipaustra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13" descr="Facebook-symbol.png"/>
          <p:cNvPicPr/>
          <p:nvPr/>
        </p:nvPicPr>
        <p:blipFill>
          <a:blip r:embed="rId3"/>
          <a:stretch/>
        </p:blipFill>
        <p:spPr>
          <a:xfrm>
            <a:off x="2471760" y="3043080"/>
            <a:ext cx="325440" cy="303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LinkedIn-symbol.png"/>
          <p:cNvPicPr/>
          <p:nvPr/>
        </p:nvPicPr>
        <p:blipFill>
          <a:blip r:embed="rId4"/>
          <a:stretch/>
        </p:blipFill>
        <p:spPr>
          <a:xfrm>
            <a:off x="2463840" y="3630600"/>
            <a:ext cx="355680" cy="303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Twitter-symbol.png"/>
          <p:cNvPicPr/>
          <p:nvPr/>
        </p:nvPicPr>
        <p:blipFill>
          <a:blip r:embed="rId5"/>
          <a:stretch/>
        </p:blipFill>
        <p:spPr>
          <a:xfrm>
            <a:off x="2451240" y="3325680"/>
            <a:ext cx="366480" cy="304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YouTube-symbol.png"/>
          <p:cNvPicPr/>
          <p:nvPr/>
        </p:nvPicPr>
        <p:blipFill>
          <a:blip r:embed="rId6"/>
          <a:stretch/>
        </p:blipFill>
        <p:spPr>
          <a:xfrm>
            <a:off x="2475000" y="3916440"/>
            <a:ext cx="318960" cy="3045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19"/>
          <p:cNvSpPr/>
          <p:nvPr/>
        </p:nvSpPr>
        <p:spPr>
          <a:xfrm>
            <a:off x="2451240" y="2143080"/>
            <a:ext cx="336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1300 65 1010 (9am – 5p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www.ipaustralia.gov.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Subtitle 2"/>
          <p:cNvSpPr/>
          <p:nvPr/>
        </p:nvSpPr>
        <p:spPr>
          <a:xfrm>
            <a:off x="460440" y="2468520"/>
            <a:ext cx="678636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to edit master subtitle sty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Content Placeholder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Title 1"/>
          <p:cNvSpPr/>
          <p:nvPr/>
        </p:nvSpPr>
        <p:spPr>
          <a:xfrm>
            <a:off x="3240" y="6488280"/>
            <a:ext cx="9140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obust intellectual property rights delivered effici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Subtitle 2"/>
          <p:cNvSpPr/>
          <p:nvPr/>
        </p:nvSpPr>
        <p:spPr>
          <a:xfrm>
            <a:off x="633240" y="2602080"/>
            <a:ext cx="6786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Click to edit master subtitle sty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633240" y="1677960"/>
            <a:ext cx="67788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sproutlabs.com.au/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33240" y="1677600"/>
            <a:ext cx="6778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ahoma"/>
              </a:rPr>
              <a:t>IP Australia’s Approach to Competency Based Training and Assess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33240" y="2601720"/>
            <a:ext cx="67867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898989"/>
                </a:solidFill>
                <a:latin typeface="Calibri"/>
              </a:rPr>
              <a:t>Ariane Le Gu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0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ahoma"/>
              </a:rPr>
              <a:t>Competency Based Training and 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6" name="Content Placeholder 4" descr=""/>
          <p:cNvPicPr/>
          <p:nvPr/>
        </p:nvPicPr>
        <p:blipFill>
          <a:blip r:embed="rId1"/>
          <a:stretch/>
        </p:blipFill>
        <p:spPr>
          <a:xfrm>
            <a:off x="457200" y="2305080"/>
            <a:ext cx="82296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434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What is competency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78920" y="169992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7030a0"/>
                </a:solidFill>
                <a:latin typeface="Arial"/>
                <a:ea typeface="Arial"/>
              </a:rPr>
              <a:t>Competency comprises the specification of knowledge and skill and the application of that knowledge and skill to the standard of performance required in the workpla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ompetency covers all aspects of workplace perform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Diagram 1" descr=""/>
          <p:cNvPicPr/>
          <p:nvPr/>
        </p:nvPicPr>
        <p:blipFill>
          <a:blip r:embed="rId1"/>
          <a:stretch/>
        </p:blipFill>
        <p:spPr>
          <a:xfrm>
            <a:off x="244440" y="3432240"/>
            <a:ext cx="85885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ahoma"/>
              </a:rPr>
              <a:t>Competency Based Training &amp; 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244620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astery of knowledge and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lear objectives (competencies and skill set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earner focused - Self pac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cognition of prior learning (RP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ssessment based on ability to perform the competencies and skill se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Diagram 6" descr=""/>
          <p:cNvPicPr/>
          <p:nvPr/>
        </p:nvPicPr>
        <p:blipFill>
          <a:blip r:embed="rId1"/>
          <a:stretch/>
        </p:blipFill>
        <p:spPr>
          <a:xfrm>
            <a:off x="5943600" y="1090440"/>
            <a:ext cx="320688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ahoma"/>
              </a:rPr>
              <a:t>IP Rights Examiner Program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Tahoma"/>
              </a:rPr>
              <a:t> (IPRE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5596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672840" y="2854440"/>
            <a:ext cx="80643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Scaffolded exper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Fully worked ex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Partially worked ex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Unworked ex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al 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9082080" cy="4662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http://www.sproutlabs.com.au/themes/sprouttheme/img/Sprout-Labs-square-small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1125360"/>
            <a:ext cx="2232000" cy="920880"/>
          </a:xfrm>
          <a:prstGeom prst="rect">
            <a:avLst/>
          </a:prstGeom>
          <a:ln w="0">
            <a:noFill/>
          </a:ln>
        </p:spPr>
      </p:pic>
      <p:sp>
        <p:nvSpPr>
          <p:cNvPr id="408" name="Title 1"/>
          <p:cNvSpPr/>
          <p:nvPr/>
        </p:nvSpPr>
        <p:spPr>
          <a:xfrm>
            <a:off x="468360" y="1341360"/>
            <a:ext cx="8074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70:20:10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06472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The ‘portfolio of evidence’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640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AU" sz="2400" spc="-1" strike="noStrike">
                <a:solidFill>
                  <a:srgbClr val="7030a0"/>
                </a:solidFill>
                <a:latin typeface="Arial"/>
                <a:ea typeface="Arial"/>
              </a:rPr>
              <a:t>traine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is responsible for gathering their own evidence for assessment and providing this to their Workplace Assessor in the form of a ‘portfolio of evidence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train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responsible for maintaining (keeping) their portfolio of evidence – this is not typically stored with the Workplace Assessor or by IP Australi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Learning Centr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Workplace Assess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ll summarise the evidence in the train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Skill Set Assessment Package – the document package for recording a summary of all relevant evidence and the final assessment outco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The CBT Assessment Proc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1"/>
          <p:cNvSpPr/>
          <p:nvPr/>
        </p:nvSpPr>
        <p:spPr>
          <a:xfrm>
            <a:off x="468360" y="4076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Diagram 5" descr=""/>
          <p:cNvPicPr/>
          <p:nvPr/>
        </p:nvPicPr>
        <p:blipFill>
          <a:blip r:embed="rId1"/>
          <a:stretch/>
        </p:blipFill>
        <p:spPr>
          <a:xfrm>
            <a:off x="530280" y="1847880"/>
            <a:ext cx="82296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0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ahoma"/>
              </a:rPr>
              <a:t>Conclusion - Competency Based Training &amp; 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258912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While training is rigorous and structured  it is </a:t>
            </a:r>
            <a:r>
              <a:rPr b="1" lang="en-AU" sz="2000" spc="-1" strike="noStrike">
                <a:solidFill>
                  <a:srgbClr val="0070c0"/>
                </a:solidFill>
                <a:latin typeface="Arial"/>
                <a:ea typeface="Arial"/>
              </a:rPr>
              <a:t>learner centred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with options to get RPL or to move ahead more quick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Trainees have to demonstrate their competence </a:t>
            </a:r>
            <a:r>
              <a:rPr b="1" lang="en-AU" sz="2000" spc="-1" strike="noStrike">
                <a:solidFill>
                  <a:srgbClr val="f79646"/>
                </a:solidFill>
                <a:latin typeface="Arial"/>
                <a:ea typeface="Arial"/>
              </a:rPr>
              <a:t>– assessment 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   is the key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6T00:03:23Z</dcterms:created>
  <dc:creator>Vanessa Salter</dc:creator>
  <dc:description/>
  <dc:language>en-US</dc:language>
  <cp:lastModifiedBy>Marlow</cp:lastModifiedBy>
  <cp:lastPrinted>2017-11-24T05:52:25Z</cp:lastPrinted>
  <dcterms:modified xsi:type="dcterms:W3CDTF">2018-07-02T12:29:38Z</dcterms:modified>
  <cp:revision>56</cp:revision>
  <dc:subject/>
  <dc:title>PowerPoint Presentation</dc:title>
</cp:coreProperties>
</file>