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76992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4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64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28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64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28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12920" y="371160"/>
            <a:ext cx="77976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634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5000" y="376992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634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0964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24280" y="119340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500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0964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24280" y="3769920"/>
            <a:ext cx="287064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12920" y="371160"/>
            <a:ext cx="7797600" cy="21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400" y="376992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193400"/>
            <a:ext cx="43506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769920"/>
            <a:ext cx="8915400" cy="23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ebb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52440"/>
            <a:ext cx="8961480" cy="5619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382680" y="6330960"/>
            <a:ext cx="9523440" cy="0"/>
          </a:xfrm>
          <a:prstGeom prst="line">
            <a:avLst/>
          </a:prstGeom>
          <a:ln w="25560">
            <a:solidFill>
              <a:srgbClr val="6074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610480" y="352440"/>
            <a:ext cx="381240" cy="5619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494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14400"/>
            <a:ext cx="8961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2440"/>
            <a:ext cx="89614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92920" y="6568200"/>
            <a:ext cx="155088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spAutoFit/>
          </a:bodyPr>
          <a:p>
            <a:pPr algn="ctr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－ </a:t>
            </a:r>
            <a:fld id="{6CCFB227-D57C-4D19-8F7A-F14A8F7D2176}" type="slidenum"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12920" y="1270080"/>
            <a:ext cx="85770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2840" bIns="42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2252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1319040" y="5307120"/>
            <a:ext cx="2173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361332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ebbf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828800"/>
            <a:ext cx="9177480" cy="17589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2673360"/>
            <a:ext cx="7315200" cy="773280"/>
          </a:xfrm>
          <a:prstGeom prst="rect">
            <a:avLst/>
          </a:prstGeom>
          <a:noFill/>
          <a:ln w="0">
            <a:noFill/>
          </a:ln>
        </p:spPr>
        <p:txBody>
          <a:bodyPr lIns="86400" rIns="87840" tIns="43920" bIns="439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686800" y="1828800"/>
            <a:ext cx="685800" cy="17589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9494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28800"/>
            <a:ext cx="9906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87760"/>
            <a:ext cx="922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85920" y="4454640"/>
            <a:ext cx="7332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82680" y="4813200"/>
            <a:ext cx="735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 December 2007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74520" algn="ctr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2320" algn="ctr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610480" cy="772920"/>
          </a:xfrm>
          <a:prstGeom prst="rect">
            <a:avLst/>
          </a:prstGeom>
          <a:noFill/>
          <a:ln w="0">
            <a:noFill/>
          </a:ln>
        </p:spPr>
        <p:txBody>
          <a:bodyPr lIns="86400" rIns="87840" tIns="43920" bIns="4392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ents on draft ST.6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2920" y="371160"/>
            <a:ext cx="779760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43200" bIns="4392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193400"/>
            <a:ext cx="891540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patent offices and applicants all over the world use not only XML for trademark (ST.66) but also XML for patent (ST.3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opting different elements and structure of XML between patent(ST.36) and trademark(ST.66) on common items might mean that patent offices and applicants would be forced to bear excessive bu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strongly recommend defining ST.66 in harmony with ST.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12920" y="371520"/>
            <a:ext cx="7797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92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lements in ST.66 and ST.3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70080" y="2440080"/>
            <a:ext cx="4653000" cy="3803400"/>
          </a:xfrm>
          <a:prstGeom prst="parallelogram">
            <a:avLst>
              <a:gd name="adj" fmla="val 49631"/>
            </a:avLst>
          </a:prstGeom>
          <a:solidFill>
            <a:srgbClr val="ccffcc">
              <a:alpha val="50000"/>
            </a:srgbClr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31240" y="2419200"/>
            <a:ext cx="4653000" cy="3803760"/>
          </a:xfrm>
          <a:prstGeom prst="parallelogram">
            <a:avLst>
              <a:gd name="adj" fmla="val 49627"/>
            </a:avLst>
          </a:prstGeom>
          <a:solidFill>
            <a:srgbClr val="ffff99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05240" y="198900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45240" y="1989000"/>
            <a:ext cx="104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.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83160" y="3835440"/>
            <a:ext cx="2089080" cy="21956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ems used on both doc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trademark and pa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220840" y="2559960"/>
            <a:ext cx="2089080" cy="2195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mark on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ems which be us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ly on documen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arding tradema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145120" y="2559960"/>
            <a:ext cx="2090880" cy="2195640"/>
          </a:xfrm>
          <a:prstGeom prst="triangle">
            <a:avLst>
              <a:gd name="adj" fmla="val 50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ent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tems which be us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ly on document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arding pa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78480" y="5386320"/>
            <a:ext cx="12463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24520" y="3500280"/>
            <a:ext cx="9669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28880" y="3500280"/>
            <a:ext cx="728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1800" y="4660920"/>
            <a:ext cx="1052280" cy="183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pplic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ddressb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atio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igna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89960" y="4653000"/>
            <a:ext cx="1249200" cy="183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ment-m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ount-e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ount-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-softw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-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ftware-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　　　　　　　　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896240" y="2284560"/>
            <a:ext cx="1251000" cy="2232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ention-tit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quest-pet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en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eclar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ig-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igure-to-publi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io-depo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o-acc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880" y="3044880"/>
            <a:ext cx="1646280" cy="168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Descri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lass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ice Class Numb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oods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oods Services Limi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ark Im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　　　　　　　　　　　　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5800" y="907920"/>
            <a:ext cx="90010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. 66 consists of two kinds of items, i.e. “Common items” with Patent and items unique to Trademark. ST.36 consists of “Common items” with Trademark and items unique to Pat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regard to the “Common items”, same elements and structure should be adopted in both ST.36 and ST.6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864880" y="5084640"/>
            <a:ext cx="649080" cy="1008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2880" y="5300640"/>
            <a:ext cx="2592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ame elements and structure should be requ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12920" y="371520"/>
            <a:ext cx="7797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92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quest for ST.66 XML Schema dra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1800" y="907920"/>
            <a:ext cx="900108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regard to XML Schema in present draft for ST.66, we strongly recommend elements regarding the common items with patent should be redefined as elements based on ST.36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lso it would be necessary to add new elements in ST.36 corresponding to “common items” with trademarks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68520" y="3017880"/>
            <a:ext cx="576360" cy="1219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08160" y="2205000"/>
            <a:ext cx="1944720" cy="3457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457440"/>
              <a:gd name="textAreaBottom" fmla="*/ 3362760 h 3457440"/>
            </a:gdLst>
            <a:ahLst/>
            <a:rect l="textAreaLeft" t="textAreaTop" r="textAreaRight" b="textAreaBottom"/>
            <a:pathLst>
              <a:path w="21600" h="38399">
                <a:moveTo>
                  <a:pt x="3600" y="0"/>
                </a:moveTo>
                <a:arcTo wR="3600" hR="3600" stAng="16200000" swAng="-5400000"/>
                <a:lnTo>
                  <a:pt x="0" y="34799"/>
                </a:lnTo>
                <a:arcTo wR="3600" hR="3600" stAng="10800000" swAng="-5400000"/>
                <a:lnTo>
                  <a:pt x="18000" y="38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esen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96880" y="3086280"/>
            <a:ext cx="1379520" cy="1022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m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ademark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96880" y="4375080"/>
            <a:ext cx="1379520" cy="10209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on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89240" y="2205000"/>
            <a:ext cx="1944720" cy="3457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457440"/>
              <a:gd name="textAreaBottom" fmla="*/ 3362760 h 3457440"/>
            </a:gdLst>
            <a:ahLst/>
            <a:rect l="textAreaLeft" t="textAreaTop" r="textAreaRight" b="textAreaBottom"/>
            <a:pathLst>
              <a:path w="21600" h="38399">
                <a:moveTo>
                  <a:pt x="3600" y="0"/>
                </a:moveTo>
                <a:arcTo wR="3600" hR="3600" stAng="16200000" swAng="-5400000"/>
                <a:lnTo>
                  <a:pt x="0" y="34799"/>
                </a:lnTo>
                <a:arcTo wR="3600" hR="3600" stAng="10800000" swAng="-5400000"/>
                <a:lnTo>
                  <a:pt x="18000" y="38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Proposal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.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78320" y="3086280"/>
            <a:ext cx="1379520" cy="10220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m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ademark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78320" y="4375080"/>
            <a:ext cx="1379520" cy="10209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on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969240" y="2205000"/>
            <a:ext cx="1944720" cy="345744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457440"/>
              <a:gd name="textAreaBottom" fmla="*/ 3362760 h 3457440"/>
            </a:gdLst>
            <a:ahLst/>
            <a:rect l="textAreaLeft" t="textAreaTop" r="textAreaRight" b="textAreaBottom"/>
            <a:pathLst>
              <a:path w="21600" h="38399">
                <a:moveTo>
                  <a:pt x="3600" y="0"/>
                </a:moveTo>
                <a:arcTo wR="3600" hR="3600" stAng="16200000" swAng="-5400000"/>
                <a:lnTo>
                  <a:pt x="0" y="34799"/>
                </a:lnTo>
                <a:arcTo wR="3600" hR="3600" stAng="10800000" swAng="-5400000"/>
                <a:lnTo>
                  <a:pt x="18000" y="383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ＳＴ．３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D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57960" y="3086280"/>
            <a:ext cx="1379520" cy="1022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m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ten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57960" y="4375080"/>
            <a:ext cx="1379520" cy="10209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mon i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16160" y="3086280"/>
            <a:ext cx="2376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16160" y="4102200"/>
            <a:ext cx="230508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600880" y="4373640"/>
            <a:ext cx="2304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600880" y="5389560"/>
            <a:ext cx="230472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248520" y="4237200"/>
            <a:ext cx="576000" cy="1218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20880" y="5300640"/>
            <a:ext cx="1800360" cy="792360"/>
          </a:xfrm>
          <a:prstGeom prst="wedgeRoundRectCallout">
            <a:avLst>
              <a:gd name="adj1" fmla="val -9699"/>
              <a:gd name="adj2" fmla="val -20631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Elements for items unique to trademark could be defined based on current idea on XML sch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1600" y="5516640"/>
            <a:ext cx="2592360" cy="936720"/>
          </a:xfrm>
          <a:prstGeom prst="wedgeRoundRectCallout">
            <a:avLst>
              <a:gd name="adj1" fmla="val -42592"/>
              <a:gd name="adj2" fmla="val -85425"/>
              <a:gd name="adj3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Elements for the common items corresponding to patent should be defined as elements based on ST.3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(element name, structu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240160" y="2708280"/>
            <a:ext cx="4322880" cy="32209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8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&lt;xsl:template match="applicant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xsl:call-template name="GetApplicantName"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xsl:call-template name="GetApplicantAddress"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xsl:template 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="GetApplicantName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&lt;xsl:value-of select="./addressbook/name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xsl:template </a:t>
            </a:r>
            <a:r>
              <a:rPr b="1" lang="ja-JP" sz="11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="GetApplicantAddress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&lt;xsl:value-of select="./</a:t>
            </a:r>
            <a:r>
              <a:rPr b="1" lang="ja-JP" sz="1100" spc="-1" strike="noStrike">
                <a:solidFill>
                  <a:srgbClr val="ff0000"/>
                </a:solidFill>
                <a:latin typeface="Arial"/>
              </a:rPr>
              <a:t>addressbook/address/address-1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2920" y="371520"/>
            <a:ext cx="7797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3200" bIns="4392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631800"/>
                <a:tab algn="l" pos="1263600"/>
                <a:tab algn="l" pos="1895400"/>
                <a:tab algn="l" pos="2527200"/>
                <a:tab algn="l" pos="3159000"/>
                <a:tab algn="l" pos="3790800"/>
                <a:tab algn="l" pos="4422600"/>
                <a:tab algn="l" pos="5054760"/>
                <a:tab algn="l" pos="5686560"/>
                <a:tab algn="l" pos="6318360"/>
                <a:tab algn="l" pos="6950160"/>
                <a:tab algn="l" pos="7581960"/>
                <a:tab algn="l" pos="8213760"/>
                <a:tab algn="l" pos="8845560"/>
                <a:tab algn="l" pos="9477360"/>
                <a:tab algn="l" pos="10109160"/>
                <a:tab algn="l" pos="107409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Request for ST.66 XML Schema draf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2880" y="2276640"/>
            <a:ext cx="1594080" cy="1601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 Narrow"/>
              </a:rPr>
              <a:t>APPLICATION FO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 Narrow"/>
              </a:rPr>
              <a:t>INTERNATIONAL REGIST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Arial Narrow"/>
              </a:rPr>
              <a:t>                                          </a:t>
            </a:r>
            <a:r>
              <a:rPr b="0" lang="ja-JP" sz="700" spc="-1" strike="noStrike">
                <a:solidFill>
                  <a:srgbClr val="000000"/>
                </a:solidFill>
                <a:latin typeface="Arial Narrow"/>
              </a:rPr>
              <a:t>(MM2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2.APPLIC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a)Nam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YAMADA, Ta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b)Addres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Akasaka 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inato-ku Toky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Ja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080" y="4348080"/>
            <a:ext cx="1568160" cy="16020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REQUEST(PCT/RO/10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Ⅱ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Applic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Ⅱ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-4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TANAKA, Ji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Ⅱ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-5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Addr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Takanawa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inato-ku Toky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　　　　</a:t>
            </a: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Ja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5240" y="2133720"/>
            <a:ext cx="1008360" cy="261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YAMADA, Ta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45240" y="2421000"/>
            <a:ext cx="1944720" cy="261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Akasaka, Minato-ku Tokyo Ja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45240" y="6165720"/>
            <a:ext cx="2016360" cy="261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Tkanawa, Minato-ku Tokyo Ja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12880" y="2349360"/>
            <a:ext cx="3095640" cy="1871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pplican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book lang="en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name name-type="natural"&gt;YAMADA, Taro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-1&gt; Akasaka, Minato-ku Tokyo Japan &lt;/address-1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ddres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ddressbook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pplican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57240" y="3068640"/>
            <a:ext cx="2590920" cy="12852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name name-type="natural"&gt;YAMADA, Taro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57240" y="3357720"/>
            <a:ext cx="2880000" cy="14436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-1&gt; Akasaka, Minato-ku Tokyo Japan &lt;/address-1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3"/>
            <a:endCxn id="137" idx="1"/>
          </p:cNvCxnSpPr>
          <p:nvPr/>
        </p:nvCxnSpPr>
        <p:spPr>
          <a:xfrm flipV="1">
            <a:off x="4745160" y="2550240"/>
            <a:ext cx="2800800" cy="880200"/>
          </a:xfrm>
          <a:prstGeom prst="bentConnector3">
            <a:avLst>
              <a:gd name="adj1" fmla="val 49826"/>
            </a:avLst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1712880" y="4437000"/>
            <a:ext cx="3095640" cy="1871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pplican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book lang="en"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name name-type="natural"&gt;TANAKA, Jiro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-1&gt;Takanawa, Minato-ku Tokyo Japan &lt;/address-1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ddress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ddressbook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/applicant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・・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57240" y="5157720"/>
            <a:ext cx="2519640" cy="14292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name name-type="natural"&gt;TANAKA, Jiro&lt;/na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57240" y="5445000"/>
            <a:ext cx="2880000" cy="142920"/>
          </a:xfrm>
          <a:prstGeom prst="rect">
            <a:avLst/>
          </a:prstGeom>
          <a:solidFill>
            <a:srgbClr val="ffcc99"/>
          </a:solidFill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&lt;address-1&gt;Takanawa, Minato-ku Tokyo Japan &lt;/address-1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5" idx="3"/>
            <a:endCxn id="138" idx="1"/>
          </p:cNvCxnSpPr>
          <p:nvPr/>
        </p:nvCxnSpPr>
        <p:spPr>
          <a:xfrm>
            <a:off x="4745160" y="5516280"/>
            <a:ext cx="2800800" cy="780120"/>
          </a:xfrm>
          <a:prstGeom prst="bentConnector3">
            <a:avLst>
              <a:gd name="adj1" fmla="val 49826"/>
            </a:avLst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2289240" y="3789360"/>
            <a:ext cx="2776320" cy="936720"/>
          </a:xfrm>
          <a:prstGeom prst="wedgeRoundRectCallout">
            <a:avLst>
              <a:gd name="adj1" fmla="val 59203"/>
              <a:gd name="adj2" fmla="val -349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Regardless of a trademark and a patent, an applicant's name and the address are acquirable at one XSLT stylesheet docume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8520" y="2060640"/>
            <a:ext cx="20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Request Form for Tradem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8520" y="4076640"/>
            <a:ext cx="199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Request Form for pa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0" idx="3"/>
            <a:endCxn id="136" idx="1"/>
          </p:cNvCxnSpPr>
          <p:nvPr/>
        </p:nvCxnSpPr>
        <p:spPr>
          <a:xfrm flipV="1">
            <a:off x="4455720" y="2262960"/>
            <a:ext cx="3089880" cy="870840"/>
          </a:xfrm>
          <a:prstGeom prst="bentConnector3">
            <a:avLst>
              <a:gd name="adj1" fmla="val 49836"/>
            </a:avLst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1" name=""/>
          <p:cNvCxnSpPr>
            <a:stCxn id="144" idx="3"/>
            <a:endCxn id="152" idx="1"/>
          </p:cNvCxnSpPr>
          <p:nvPr/>
        </p:nvCxnSpPr>
        <p:spPr>
          <a:xfrm>
            <a:off x="4384440" y="5229360"/>
            <a:ext cx="3161160" cy="778320"/>
          </a:xfrm>
          <a:prstGeom prst="bentConnector3">
            <a:avLst>
              <a:gd name="adj1" fmla="val 49817"/>
            </a:avLst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7545240" y="5877000"/>
            <a:ext cx="863640" cy="261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Tanaka, Ji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5800" y="907920"/>
            <a:ext cx="900108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Unifying elements in ST.66 and ST.36 corresponding to the “Common items”, it will be possible to share XML process between trademark and pat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For example, it will be available to obtain an applicant’s name and address by one XSLT stylesheet document regardless of a trademark and a pat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400880" y="5410080"/>
            <a:ext cx="208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k you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04:45:45Z</dcterms:created>
  <dc:creator>shino</dc:creator>
  <dc:description/>
  <dc:language>en-US</dc:language>
  <cp:lastModifiedBy>Hide</cp:lastModifiedBy>
  <cp:lastPrinted>2000-06-09T10:50:24Z</cp:lastPrinted>
  <dcterms:modified xsi:type="dcterms:W3CDTF">2006-12-22T01:18:44Z</dcterms:modified>
  <cp:revision>376</cp:revision>
  <dc:subject/>
  <dc:title>共通テーブル管理システムの機能拡張について</dc:title>
</cp:coreProperties>
</file>